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7186EB-D593-4CF7-A755-8576FC34057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b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DED-11CF-44EB-96A1-17C832A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3BC-F6EF-4EA3-9C18-BF9F2D3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519-7418-4E77-8341-C1F5CAF8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E40-B683-4BCE-8B56-2D0682BD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8E8DE-FA08-43BD-9AFA-35AC23C1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10059-8502-466E-B720-A33FE2C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F8CC-6C4B-47FB-A2CE-EC57215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7DF8D-0FEA-4834-8416-55D8A8E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62CF1-DDCD-4E1A-A3DB-928C258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8770F-D7BC-4B98-B62C-D7D2086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00366-8A79-4C19-9F83-773D53C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F0F-3367-440F-9E8C-31C95DC7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150D1-DD3E-4A1C-A790-DB232FF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33911-30C2-4644-9D2F-CF673C1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2E02-E034-4472-8D42-373F9C6E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FE66-54B9-4085-8DD2-4C96C76C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82D8-58F2-4934-AF3A-1475EA94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EAA-AC4D-414E-92F6-5B4E7D73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576-0BAF-4FF0-A93B-732910EB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EE4-B9CF-45FB-A9B4-07A2E98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5BD-DE11-4875-BBEF-0D17809E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16C-9E91-4B25-B715-72B276E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74B-EEF9-4CD6-894C-854D7A8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4BB-AC34-495E-8A09-3A5147F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F374-06FC-4E11-BECE-1C9A1845A1C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3A0E-2EFE-4019-A71A-AD75BA45E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M-Baum: Eine effiziente Indexstruktur für Ähnlichkeitsanfragen in metrischen Räumen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0864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. Ciaccia, M. Patella, P. Zezula; 23. VLDB-Konferenz, 1997, At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08. Julii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Vorlesung Multimedia-Datenbanksyst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ank an 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Olaf Schmitt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für Erstellung der Fol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50920" y="2708280"/>
          <a:ext cx="5716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70828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708360" y="3968640"/>
            <a:ext cx="4645080" cy="2700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16000" y="3968640"/>
            <a:ext cx="2376360" cy="2700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rundlagen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2457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stellung des Metrischen Raums i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11480" y="2997360"/>
            <a:ext cx="62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r relative Abstände zwischen Obj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ine absoluten Positi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71640" y="5373720"/>
            <a:ext cx="1081080" cy="755640"/>
            <a:chOff x="1871640" y="5373720"/>
            <a:chExt cx="1081080" cy="755640"/>
          </a:xfrm>
        </p:grpSpPr>
        <p:sp>
          <p:nvSpPr>
            <p:cNvPr id="315" name=""/>
            <p:cNvSpPr/>
            <p:nvPr/>
          </p:nvSpPr>
          <p:spPr>
            <a:xfrm>
              <a:off x="1871640" y="5986440"/>
              <a:ext cx="144360" cy="14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08360" y="5373720"/>
              <a:ext cx="144360" cy="142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16000" y="5481360"/>
              <a:ext cx="792360" cy="53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028000" y="537372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01760" y="39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(</a:t>
            </a:r>
            <a:r>
              <a:rPr b="0" lang="de-DE" sz="18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de-DE" sz="18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27880" y="39686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kan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08800" y="486900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stell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530208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61440" y="4689360"/>
            <a:ext cx="14436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69080" y="4797000"/>
            <a:ext cx="79236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57400" y="39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(</a:t>
            </a:r>
            <a:r>
              <a:rPr b="0" lang="de-DE" sz="18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de-DE" sz="18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83880" y="39686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kan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59760" y="486900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stell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67640" y="5408640"/>
            <a:ext cx="1260360" cy="3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60640" y="44006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(</a:t>
            </a:r>
            <a:r>
              <a:rPr b="0" lang="de-DE" sz="18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de-DE" sz="1800" spc="-1" strike="noStrike">
                <a:solidFill>
                  <a:srgbClr val="66ff66"/>
                </a:solidFill>
                <a:latin typeface="Tahoma"/>
              </a:rPr>
              <a:t>C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80000" y="4257720"/>
            <a:ext cx="2232000" cy="2232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56160" y="5341680"/>
            <a:ext cx="1112760" cy="818640"/>
            <a:chOff x="1856160" y="5341680"/>
            <a:chExt cx="1112760" cy="818640"/>
          </a:xfrm>
        </p:grpSpPr>
        <p:sp>
          <p:nvSpPr>
            <p:cNvPr id="332" name=""/>
            <p:cNvSpPr/>
            <p:nvPr/>
          </p:nvSpPr>
          <p:spPr>
            <a:xfrm rot="4047000">
              <a:off x="1877760" y="5364000"/>
              <a:ext cx="144360" cy="14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047000">
              <a:off x="2802960" y="5994360"/>
              <a:ext cx="144360" cy="142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1680" y="5488200"/>
              <a:ext cx="802440" cy="52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78760" y="5592960"/>
            <a:ext cx="1298160" cy="354600"/>
            <a:chOff x="1778760" y="5592960"/>
            <a:chExt cx="1298160" cy="354600"/>
          </a:xfrm>
        </p:grpSpPr>
        <p:sp>
          <p:nvSpPr>
            <p:cNvPr id="336" name=""/>
            <p:cNvSpPr/>
            <p:nvPr/>
          </p:nvSpPr>
          <p:spPr>
            <a:xfrm rot="12284400">
              <a:off x="2909160" y="5616360"/>
              <a:ext cx="144360" cy="14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2284400">
              <a:off x="1801800" y="5780880"/>
              <a:ext cx="144360" cy="142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954800" y="5691240"/>
              <a:ext cx="945360" cy="15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2276640"/>
            <a:ext cx="77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M-Ba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11280" y="2781360"/>
            <a:ext cx="64818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etris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eitenorienti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alanci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für große dynamische Datenmengen geeig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rweitert Anwendungsgebiet von z.B. R-Baum beträcht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ptimiert auf Distanzberechnungen und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-876240" y="2319480"/>
            <a:ext cx="5581440" cy="4927320"/>
          </a:xfrm>
          <a:custGeom>
            <a:avLst/>
            <a:gdLst/>
            <a:ahLst/>
            <a:rect l="l" t="t" r="r" b="b"/>
            <a:pathLst>
              <a:path w="3516" h="3104">
                <a:moveTo>
                  <a:pt x="597" y="291"/>
                </a:moveTo>
                <a:cubicBezTo>
                  <a:pt x="403" y="334"/>
                  <a:pt x="1685" y="0"/>
                  <a:pt x="2139" y="291"/>
                </a:cubicBezTo>
                <a:cubicBezTo>
                  <a:pt x="2593" y="582"/>
                  <a:pt x="3122" y="1618"/>
                  <a:pt x="3319" y="2037"/>
                </a:cubicBezTo>
                <a:cubicBezTo>
                  <a:pt x="3516" y="2456"/>
                  <a:pt x="3084" y="2938"/>
                  <a:pt x="2861" y="3104"/>
                </a:cubicBezTo>
                <a:lnTo>
                  <a:pt x="1981" y="3035"/>
                </a:lnTo>
                <a:lnTo>
                  <a:pt x="529" y="3012"/>
                </a:lnTo>
                <a:lnTo>
                  <a:pt x="393" y="1901"/>
                </a:lnTo>
                <a:lnTo>
                  <a:pt x="325" y="631"/>
                </a:lnTo>
                <a:lnTo>
                  <a:pt x="0" y="545"/>
                </a:lnTo>
                <a:cubicBezTo>
                  <a:pt x="0" y="545"/>
                  <a:pt x="597" y="291"/>
                  <a:pt x="597" y="291"/>
                </a:cubicBezTo>
                <a:close/>
              </a:path>
            </a:pathLst>
          </a:custGeom>
          <a:solidFill>
            <a:srgbClr val="0d8d22">
              <a:alpha val="29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28800" y="4881600"/>
            <a:ext cx="3625560" cy="2017800"/>
          </a:xfrm>
          <a:custGeom>
            <a:avLst/>
            <a:gdLst/>
            <a:ahLst/>
            <a:rect l="l" t="t" r="r" b="b"/>
            <a:pathLst>
              <a:path w="2284" h="1271">
                <a:moveTo>
                  <a:pt x="866" y="15"/>
                </a:moveTo>
                <a:cubicBezTo>
                  <a:pt x="1199" y="30"/>
                  <a:pt x="1854" y="206"/>
                  <a:pt x="2069" y="391"/>
                </a:cubicBezTo>
                <a:cubicBezTo>
                  <a:pt x="2284" y="576"/>
                  <a:pt x="2203" y="855"/>
                  <a:pt x="2055" y="1063"/>
                </a:cubicBezTo>
                <a:cubicBezTo>
                  <a:pt x="1907" y="1271"/>
                  <a:pt x="1575" y="1210"/>
                  <a:pt x="1263" y="1202"/>
                </a:cubicBezTo>
                <a:cubicBezTo>
                  <a:pt x="951" y="1194"/>
                  <a:pt x="348" y="1165"/>
                  <a:pt x="183" y="1015"/>
                </a:cubicBezTo>
                <a:cubicBezTo>
                  <a:pt x="0" y="851"/>
                  <a:pt x="157" y="454"/>
                  <a:pt x="274" y="299"/>
                </a:cubicBezTo>
                <a:cubicBezTo>
                  <a:pt x="391" y="144"/>
                  <a:pt x="533" y="0"/>
                  <a:pt x="866" y="15"/>
                </a:cubicBezTo>
                <a:close/>
              </a:path>
            </a:pathLst>
          </a:custGeom>
          <a:solidFill>
            <a:srgbClr val="ff6600">
              <a:alpha val="4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924360" y="1592280"/>
          <a:ext cx="1919160" cy="219708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Routing-Ob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924360" y="1592280"/>
          <a:ext cx="1919160" cy="219708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Routing-Ob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1295280" y="5624640"/>
            <a:ext cx="295272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03640" y="3392640"/>
          <a:ext cx="1919160" cy="216000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B-Objek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203640" y="3392640"/>
          <a:ext cx="1919160" cy="216000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B-Objek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203640" y="3392640"/>
          <a:ext cx="1919160" cy="216036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B-Objek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id(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d(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,P(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3640" y="3392640"/>
          <a:ext cx="1919160" cy="215892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B-Objek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8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id(</a:t>
                      </a:r>
                      <a:r>
                        <a:rPr b="0" lang="de-DE" sz="2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8000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</a:t>
                      </a:r>
                      <a:r>
                        <a:rPr b="0" lang="de-DE" sz="2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8000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P(</a:t>
                      </a:r>
                      <a:r>
                        <a:rPr b="0" lang="de-DE" sz="2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8000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924360" y="1592280"/>
          <a:ext cx="1919160" cy="216540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Routing-Ob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(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P(</a:t>
                      </a:r>
                      <a:r>
                        <a:rPr b="0" lang="de-DE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4535640" y="5624640"/>
            <a:ext cx="295272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-1908000" y="5624640"/>
            <a:ext cx="295272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5624640"/>
            <a:ext cx="295272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431640" y="3033720"/>
            <a:ext cx="241128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91280" y="3033720"/>
            <a:ext cx="2952720" cy="79200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3716280"/>
            <a:ext cx="1008000" cy="19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-252360" y="3716280"/>
            <a:ext cx="122400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-2268360" y="3716280"/>
            <a:ext cx="25192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4360" y="4257720"/>
            <a:ext cx="1026360" cy="37080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tr(T(</a:t>
            </a:r>
            <a:r>
              <a:rPr b="0" lang="de-DE" sz="1600" spc="-1" strike="noStrike">
                <a:solidFill>
                  <a:srgbClr val="006600"/>
                </a:solidFill>
                <a:latin typeface="Tahoma"/>
              </a:rPr>
              <a:t>O</a:t>
            </a:r>
            <a:r>
              <a:rPr b="0" lang="de-DE" sz="1600" spc="-1" strike="noStrike" baseline="-25000">
                <a:solidFill>
                  <a:srgbClr val="006600"/>
                </a:solidFill>
                <a:latin typeface="Tahoma"/>
              </a:rPr>
              <a:t>r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4000" y="1268280"/>
            <a:ext cx="2952720" cy="792360"/>
          </a:xfrm>
          <a:prstGeom prst="rect">
            <a:avLst/>
          </a:prstGeom>
          <a:solidFill>
            <a:srgbClr val="ffffff">
              <a:alpha val="1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1567800" y="1449360"/>
            <a:ext cx="1503720" cy="45972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tr(T(</a:t>
            </a:r>
            <a:r>
              <a:rPr b="0" lang="de-DE" sz="2400" spc="-1" strike="noStrike">
                <a:solidFill>
                  <a:srgbClr val="006600"/>
                </a:solidFill>
                <a:latin typeface="Tahoma"/>
              </a:rPr>
              <a:t>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24000" y="441360"/>
          <a:ext cx="2197080" cy="2165400"/>
        </p:xfrm>
        <a:graphic>
          <a:graphicData uri="http://schemas.openxmlformats.org/drawingml/2006/table">
            <a:tbl>
              <a:tblPr/>
              <a:tblGrid>
                <a:gridCol w="2197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Routing-Ob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10199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(</a:t>
                      </a:r>
                      <a:r>
                        <a:rPr b="0" lang="de-DE" sz="2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10199"/>
                          </a:solidFill>
                          <a:latin typeface="Tahoma"/>
                        </a:rPr>
                        <a:t>w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</a:t>
                      </a:r>
                      <a:r>
                        <a:rPr b="0" lang="de-DE" sz="2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10199"/>
                          </a:solidFill>
                          <a:latin typeface="Tahoma"/>
                        </a:rPr>
                        <a:t>w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P(</a:t>
                      </a:r>
                      <a:r>
                        <a:rPr b="0" lang="de-DE" sz="2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800" spc="-1" strike="noStrike" baseline="-25000">
                          <a:solidFill>
                            <a:srgbClr val="010199"/>
                          </a:solidFill>
                          <a:latin typeface="Tahoma"/>
                        </a:rPr>
                        <a:t>w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 flipH="1">
            <a:off x="791640" y="1916280"/>
            <a:ext cx="2411640" cy="11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30680" y="2158920"/>
            <a:ext cx="1070640" cy="37080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tr(T(</a:t>
            </a:r>
            <a:r>
              <a:rPr b="0" lang="de-DE" sz="1600" spc="-1" strike="noStrike">
                <a:solidFill>
                  <a:srgbClr val="010199"/>
                </a:solidFill>
                <a:latin typeface="Tahoma"/>
              </a:rPr>
              <a:t>O</a:t>
            </a:r>
            <a:r>
              <a:rPr b="0" lang="de-DE" sz="1600" spc="-1" strike="noStrike" baseline="-25000">
                <a:solidFill>
                  <a:srgbClr val="010199"/>
                </a:solidFill>
                <a:latin typeface="Tahoma"/>
              </a:rPr>
              <a:t>w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-8640" y="4292640"/>
            <a:ext cx="979560" cy="33732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tr(T(</a:t>
            </a:r>
            <a:r>
              <a:rPr b="0" lang="de-DE" sz="1600" spc="-1" strike="noStrike">
                <a:solidFill>
                  <a:srgbClr val="006600"/>
                </a:solidFill>
                <a:latin typeface="Tahoma"/>
              </a:rPr>
              <a:t>…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184720" y="5985000"/>
            <a:ext cx="539640" cy="108000"/>
            <a:chOff x="5184720" y="5985000"/>
            <a:chExt cx="539640" cy="108000"/>
          </a:xfrm>
        </p:grpSpPr>
        <p:sp>
          <p:nvSpPr>
            <p:cNvPr id="371" name=""/>
            <p:cNvSpPr/>
            <p:nvPr/>
          </p:nvSpPr>
          <p:spPr>
            <a:xfrm>
              <a:off x="518472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00720" y="5985000"/>
              <a:ext cx="10764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636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659640" y="3392640"/>
            <a:ext cx="539640" cy="107640"/>
            <a:chOff x="6659640" y="3392640"/>
            <a:chExt cx="539640" cy="107640"/>
          </a:xfrm>
        </p:grpSpPr>
        <p:sp>
          <p:nvSpPr>
            <p:cNvPr id="375" name=""/>
            <p:cNvSpPr/>
            <p:nvPr/>
          </p:nvSpPr>
          <p:spPr>
            <a:xfrm>
              <a:off x="6659640" y="3392640"/>
              <a:ext cx="108000" cy="10764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75640" y="3392640"/>
              <a:ext cx="107640" cy="10764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1280" y="3392640"/>
              <a:ext cx="108000" cy="10764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42920" y="5985000"/>
            <a:ext cx="539640" cy="108000"/>
            <a:chOff x="142920" y="5985000"/>
            <a:chExt cx="539640" cy="108000"/>
          </a:xfrm>
        </p:grpSpPr>
        <p:sp>
          <p:nvSpPr>
            <p:cNvPr id="379" name=""/>
            <p:cNvSpPr/>
            <p:nvPr/>
          </p:nvSpPr>
          <p:spPr>
            <a:xfrm>
              <a:off x="14292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920" y="5985000"/>
              <a:ext cx="10764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56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427640" y="1592280"/>
            <a:ext cx="539640" cy="108000"/>
            <a:chOff x="4427640" y="1592280"/>
            <a:chExt cx="539640" cy="108000"/>
          </a:xfrm>
        </p:grpSpPr>
        <p:sp>
          <p:nvSpPr>
            <p:cNvPr id="383" name=""/>
            <p:cNvSpPr/>
            <p:nvPr/>
          </p:nvSpPr>
          <p:spPr>
            <a:xfrm>
              <a:off x="4427640" y="159228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3640" y="1592280"/>
              <a:ext cx="10764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59280" y="159228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280360" y="5985000"/>
            <a:ext cx="539640" cy="108000"/>
            <a:chOff x="8280360" y="5985000"/>
            <a:chExt cx="539640" cy="108000"/>
          </a:xfrm>
        </p:grpSpPr>
        <p:sp>
          <p:nvSpPr>
            <p:cNvPr id="387" name=""/>
            <p:cNvSpPr/>
            <p:nvPr/>
          </p:nvSpPr>
          <p:spPr>
            <a:xfrm>
              <a:off x="828036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96360" y="5985000"/>
              <a:ext cx="10764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12000" y="5985000"/>
              <a:ext cx="108000" cy="108000"/>
            </a:xfrm>
            <a:prstGeom prst="octagon">
              <a:avLst>
                <a:gd name="adj" fmla="val 29287"/>
              </a:avLst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5977080" y="3753000"/>
            <a:ext cx="90000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40720" y="3753000"/>
            <a:ext cx="11872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7280" y="1881360"/>
            <a:ext cx="2700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688000" y="0"/>
          <a:ext cx="3456000" cy="1908000"/>
        </p:xfrm>
        <a:graphic>
          <a:graphicData uri="http://schemas.openxmlformats.org/drawingml/2006/table">
            <a:tbl>
              <a:tblPr/>
              <a:tblGrid>
                <a:gridCol w="1406520"/>
                <a:gridCol w="2049480"/>
              </a:tblGrid>
              <a:tr h="22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oid(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(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,P(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)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r(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T(O</a:t>
                      </a:r>
                      <a:r>
                        <a:rPr b="0" lang="de-DE" sz="2000" spc="-1" strike="noStrike" baseline="-25000">
                          <a:solidFill>
                            <a:srgbClr val="ffcc00"/>
                          </a:solidFill>
                          <a:latin typeface="Tahoma"/>
                        </a:rPr>
                        <a:t>j</a:t>
                      </a:r>
                      <a:r>
                        <a:rPr b="0" lang="de-DE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ature von O</a:t>
                      </a:r>
                      <a:r>
                        <a:rPr b="0" lang="de-DE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kt – 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tanz zu V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veringradi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veringtr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-181080" y="5049720"/>
            <a:ext cx="9901440" cy="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27280" y="508464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tteb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92360" y="5121360"/>
            <a:ext cx="9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T(</a:t>
            </a:r>
            <a:r>
              <a:rPr b="0" lang="de-DE" sz="1600" spc="-1" strike="noStrike">
                <a:solidFill>
                  <a:srgbClr val="006600"/>
                </a:solidFill>
                <a:latin typeface="Tahoma"/>
              </a:rPr>
              <a:t>O</a:t>
            </a:r>
            <a:r>
              <a:rPr b="0" lang="de-DE" sz="1600" spc="-1" strike="noStrike" baseline="-25000">
                <a:solidFill>
                  <a:srgbClr val="006600"/>
                </a:solidFill>
                <a:latin typeface="Tahoma"/>
              </a:rPr>
              <a:t>r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3429000"/>
            <a:ext cx="9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T(</a:t>
            </a:r>
            <a:r>
              <a:rPr b="0" lang="de-DE" sz="1600" spc="-1" strike="noStrike">
                <a:solidFill>
                  <a:srgbClr val="010199"/>
                </a:solidFill>
                <a:latin typeface="Tahoma"/>
              </a:rPr>
              <a:t>O</a:t>
            </a:r>
            <a:r>
              <a:rPr b="0" lang="de-DE" sz="1600" spc="-1" strike="noStrike" baseline="-25000">
                <a:solidFill>
                  <a:srgbClr val="010199"/>
                </a:solidFill>
                <a:latin typeface="Tahoma"/>
              </a:rPr>
              <a:t>w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693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19149 0.22593 E">
                                      <p:cBhvr>
                                        <p:cTn id="26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03403 0.22593 E">
                                      <p:cBhvr>
                                        <p:cTn id="26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27014 0.22593 E">
                                      <p:cBhvr>
                                        <p:cTn id="26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11268 0.22593 E">
                                      <p:cBhvr>
                                        <p:cTn id="27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6 L -0.34896 0.11018 E">
                                      <p:cBhvr>
                                        <p:cTn id="31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43021 0.10579 E">
                                      <p:cBhvr>
                                        <p:cTn id="31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50695 0.10695 E">
                                      <p:cBhvr>
                                        <p:cTn id="3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4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19479 0.0206 E">
                                      <p:cBhvr>
                                        <p:cTn id="359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58920" y="2421000"/>
            <a:ext cx="3708360" cy="3708360"/>
            <a:chOff x="358920" y="2421000"/>
            <a:chExt cx="3708360" cy="3708360"/>
          </a:xfrm>
        </p:grpSpPr>
        <p:sp>
          <p:nvSpPr>
            <p:cNvPr id="400" name=""/>
            <p:cNvSpPr/>
            <p:nvPr/>
          </p:nvSpPr>
          <p:spPr>
            <a:xfrm>
              <a:off x="358920" y="2421000"/>
              <a:ext cx="3708360" cy="3708360"/>
            </a:xfrm>
            <a:prstGeom prst="ellipse">
              <a:avLst/>
            </a:prstGeom>
            <a:solidFill>
              <a:srgbClr val="ffffff">
                <a:alpha val="32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16000" y="4257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294920" y="4292640"/>
              <a:ext cx="900360" cy="15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58920" y="4221000"/>
              <a:ext cx="10800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7280" y="5049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Tahoma"/>
                </a:rPr>
                <a:t>r(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867120" y="3784680"/>
            <a:ext cx="2908440" cy="320976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516000" y="3789360"/>
            <a:ext cx="2700360" cy="320976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812000" y="4976640"/>
            <a:ext cx="1332000" cy="172728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cc99ff">
              <a:alpha val="40000"/>
            </a:srgbClr>
          </a:solidFill>
          <a:ln w="1260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51640" y="4941720"/>
            <a:ext cx="1316160" cy="183708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333399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435640" y="5049720"/>
            <a:ext cx="1332000" cy="172728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339966">
              <a:alpha val="40000"/>
            </a:srgbClr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89520" y="5013360"/>
            <a:ext cx="1566720" cy="1728720"/>
          </a:xfrm>
          <a:custGeom>
            <a:avLst/>
            <a:gdLst/>
            <a:ahLst/>
            <a:rect l="l" t="t" r="r" b="b"/>
            <a:pathLst>
              <a:path w="1832" h="2022">
                <a:moveTo>
                  <a:pt x="1438" y="256"/>
                </a:moveTo>
                <a:cubicBezTo>
                  <a:pt x="1176" y="435"/>
                  <a:pt x="408" y="1075"/>
                  <a:pt x="204" y="1331"/>
                </a:cubicBezTo>
                <a:cubicBezTo>
                  <a:pt x="0" y="1587"/>
                  <a:pt x="76" y="1705"/>
                  <a:pt x="217" y="1794"/>
                </a:cubicBezTo>
                <a:cubicBezTo>
                  <a:pt x="358" y="1883"/>
                  <a:pt x="1615" y="2022"/>
                  <a:pt x="1711" y="1792"/>
                </a:cubicBezTo>
                <a:cubicBezTo>
                  <a:pt x="1807" y="1562"/>
                  <a:pt x="1832" y="512"/>
                  <a:pt x="1778" y="256"/>
                </a:cubicBezTo>
                <a:cubicBezTo>
                  <a:pt x="1724" y="0"/>
                  <a:pt x="1509" y="256"/>
                  <a:pt x="1438" y="256"/>
                </a:cubicBezTo>
                <a:close/>
              </a:path>
            </a:pathLst>
          </a:custGeom>
          <a:solidFill>
            <a:srgbClr val="ff6600">
              <a:alpha val="3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203640" y="1484280"/>
            <a:ext cx="3166920" cy="3166920"/>
            <a:chOff x="3203640" y="1484280"/>
            <a:chExt cx="3166920" cy="3166920"/>
          </a:xfrm>
        </p:grpSpPr>
        <p:sp>
          <p:nvSpPr>
            <p:cNvPr id="412" name=""/>
            <p:cNvSpPr/>
            <p:nvPr/>
          </p:nvSpPr>
          <p:spPr>
            <a:xfrm>
              <a:off x="3203640" y="1484280"/>
              <a:ext cx="3166920" cy="316692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56000" y="288936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3995280" y="1699920"/>
              <a:ext cx="792360" cy="1368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32200" y="3013200"/>
              <a:ext cx="10800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19280" y="2637000"/>
            <a:ext cx="1763640" cy="1763640"/>
            <a:chOff x="719280" y="2637000"/>
            <a:chExt cx="1763640" cy="1763640"/>
          </a:xfrm>
        </p:grpSpPr>
        <p:sp>
          <p:nvSpPr>
            <p:cNvPr id="417" name=""/>
            <p:cNvSpPr/>
            <p:nvPr/>
          </p:nvSpPr>
          <p:spPr>
            <a:xfrm>
              <a:off x="719280" y="2637000"/>
              <a:ext cx="1763640" cy="1763640"/>
            </a:xfrm>
            <a:prstGeom prst="ellipse">
              <a:avLst/>
            </a:prstGeom>
            <a:solidFill>
              <a:srgbClr val="ff6600">
                <a:alpha val="30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47640" y="3465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791640" y="3176280"/>
              <a:ext cx="792360" cy="36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47640" y="3465360"/>
              <a:ext cx="108000" cy="108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-Baum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859280" y="1844640"/>
            <a:ext cx="1333440" cy="1333440"/>
            <a:chOff x="4859280" y="1844640"/>
            <a:chExt cx="1333440" cy="1333440"/>
          </a:xfrm>
        </p:grpSpPr>
        <p:sp>
          <p:nvSpPr>
            <p:cNvPr id="423" name=""/>
            <p:cNvSpPr/>
            <p:nvPr/>
          </p:nvSpPr>
          <p:spPr>
            <a:xfrm>
              <a:off x="4859280" y="1844640"/>
              <a:ext cx="1333440" cy="13334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4836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8720" y="1916280"/>
              <a:ext cx="287280" cy="612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2000" y="2457360"/>
              <a:ext cx="108000" cy="108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4560" y="1952640"/>
            <a:ext cx="649440" cy="1224000"/>
            <a:chOff x="5254560" y="1952640"/>
            <a:chExt cx="649440" cy="1224000"/>
          </a:xfrm>
        </p:grpSpPr>
        <p:sp>
          <p:nvSpPr>
            <p:cNvPr id="428" name=""/>
            <p:cNvSpPr/>
            <p:nvPr/>
          </p:nvSpPr>
          <p:spPr>
            <a:xfrm>
              <a:off x="5506920" y="3068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91280" y="1952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54560" y="2673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6000" y="26002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90920" y="3500280"/>
            <a:ext cx="1008000" cy="1008360"/>
            <a:chOff x="4390920" y="3500280"/>
            <a:chExt cx="1008000" cy="1008360"/>
          </a:xfrm>
        </p:grpSpPr>
        <p:sp>
          <p:nvSpPr>
            <p:cNvPr id="433" name=""/>
            <p:cNvSpPr/>
            <p:nvPr/>
          </p:nvSpPr>
          <p:spPr>
            <a:xfrm>
              <a:off x="4390920" y="3500280"/>
              <a:ext cx="1008000" cy="1008360"/>
            </a:xfrm>
            <a:prstGeom prst="ellipse">
              <a:avLst/>
            </a:prstGeom>
            <a:solidFill>
              <a:srgbClr val="cc99ff">
                <a:alpha val="40000"/>
              </a:srgbClr>
            </a:soli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3280" y="3573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f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96000" y="4005360"/>
              <a:ext cx="107640" cy="503280"/>
            </a:xfrm>
            <a:prstGeom prst="line">
              <a:avLst/>
            </a:prstGeom>
            <a:ln w="936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42000" y="3951360"/>
              <a:ext cx="108000" cy="108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498920" y="3645000"/>
            <a:ext cx="792360" cy="647640"/>
            <a:chOff x="4498920" y="3645000"/>
            <a:chExt cx="792360" cy="647640"/>
          </a:xfrm>
        </p:grpSpPr>
        <p:sp>
          <p:nvSpPr>
            <p:cNvPr id="438" name=""/>
            <p:cNvSpPr/>
            <p:nvPr/>
          </p:nvSpPr>
          <p:spPr>
            <a:xfrm>
              <a:off x="4606920" y="4184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83280" y="3645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8920" y="3825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38560" y="3968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258920" y="3033720"/>
            <a:ext cx="1187280" cy="719280"/>
            <a:chOff x="1258920" y="3033720"/>
            <a:chExt cx="1187280" cy="719280"/>
          </a:xfrm>
        </p:grpSpPr>
        <p:sp>
          <p:nvSpPr>
            <p:cNvPr id="443" name=""/>
            <p:cNvSpPr/>
            <p:nvPr/>
          </p:nvSpPr>
          <p:spPr>
            <a:xfrm>
              <a:off x="1258920" y="3645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38560" y="324972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95280" y="3033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98560" y="3141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84360" y="3573360"/>
            <a:ext cx="1368360" cy="1368360"/>
            <a:chOff x="2484360" y="3573360"/>
            <a:chExt cx="1368360" cy="1368360"/>
          </a:xfrm>
        </p:grpSpPr>
        <p:sp>
          <p:nvSpPr>
            <p:cNvPr id="448" name=""/>
            <p:cNvSpPr/>
            <p:nvPr/>
          </p:nvSpPr>
          <p:spPr>
            <a:xfrm>
              <a:off x="2484360" y="3573360"/>
              <a:ext cx="1368360" cy="1368360"/>
            </a:xfrm>
            <a:prstGeom prst="ellipse">
              <a:avLst/>
            </a:prstGeom>
            <a:solidFill>
              <a:srgbClr val="339966">
                <a:alpha val="40000"/>
              </a:srgbClr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43280" y="41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66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166920" y="4149720"/>
              <a:ext cx="684360" cy="1080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12920" y="4203720"/>
              <a:ext cx="108000" cy="1080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90920" y="3789360"/>
            <a:ext cx="1008000" cy="684360"/>
            <a:chOff x="2590920" y="3789360"/>
            <a:chExt cx="1008000" cy="684360"/>
          </a:xfrm>
        </p:grpSpPr>
        <p:sp>
          <p:nvSpPr>
            <p:cNvPr id="453" name=""/>
            <p:cNvSpPr/>
            <p:nvPr/>
          </p:nvSpPr>
          <p:spPr>
            <a:xfrm>
              <a:off x="2590920" y="3897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4920" y="43657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7640" y="3789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90920" y="3897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427640" y="4257720"/>
            <a:ext cx="4465440" cy="2266920"/>
            <a:chOff x="4427640" y="4257720"/>
            <a:chExt cx="4465440" cy="2266920"/>
          </a:xfrm>
        </p:grpSpPr>
        <p:sp>
          <p:nvSpPr>
            <p:cNvPr id="458" name=""/>
            <p:cNvSpPr/>
            <p:nvPr/>
          </p:nvSpPr>
          <p:spPr>
            <a:xfrm flipH="1">
              <a:off x="4932000" y="5624640"/>
              <a:ext cx="36036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59280" y="5624640"/>
              <a:ext cx="3254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236000" y="562464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56720" y="5624640"/>
              <a:ext cx="431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6156360" y="4257720"/>
              <a:ext cx="1008000" cy="459720"/>
              <a:chOff x="6156360" y="4257720"/>
              <a:chExt cx="1008000" cy="459720"/>
            </a:xfrm>
          </p:grpSpPr>
          <p:sp>
            <p:nvSpPr>
              <p:cNvPr id="463" name=""/>
              <p:cNvSpPr/>
              <p:nvPr/>
            </p:nvSpPr>
            <p:spPr>
              <a:xfrm>
                <a:off x="6156360" y="428940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56360" y="4257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6000" y="4257720"/>
                <a:ext cx="3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040360" y="5210280"/>
              <a:ext cx="3240000" cy="461160"/>
              <a:chOff x="5040360" y="5210280"/>
              <a:chExt cx="3240000" cy="46116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040360" y="5210280"/>
                <a:ext cx="1008000" cy="461160"/>
                <a:chOff x="5040360" y="5210280"/>
                <a:chExt cx="1008000" cy="4611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040360" y="5241960"/>
                  <a:ext cx="1008000" cy="3952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111640" y="5210280"/>
                  <a:ext cx="46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66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43640" y="52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9966"/>
                      </a:solidFill>
                      <a:latin typeface="Tahoma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7272360" y="5210280"/>
                <a:ext cx="1008000" cy="459720"/>
                <a:chOff x="7272360" y="5210280"/>
                <a:chExt cx="1008000" cy="4597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72360" y="5241960"/>
                  <a:ext cx="1008000" cy="3952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43640" y="5210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99"/>
                      </a:solidFill>
                      <a:latin typeface="Tahoma"/>
                    </a:rPr>
                    <a:t>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75640" y="5210280"/>
                  <a:ext cx="46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99ff"/>
                      </a:solidFill>
                      <a:latin typeface="Tahoma"/>
                    </a:rPr>
                    <a:t>F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4427640" y="6129360"/>
              <a:ext cx="4465440" cy="395280"/>
              <a:chOff x="4427640" y="6129360"/>
              <a:chExt cx="4465440" cy="395280"/>
            </a:xfrm>
          </p:grpSpPr>
          <p:sp>
            <p:nvSpPr>
              <p:cNvPr id="476" name=""/>
              <p:cNvSpPr/>
              <p:nvPr/>
            </p:nvSpPr>
            <p:spPr>
              <a:xfrm>
                <a:off x="4427640" y="612936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80000" y="612936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32720" y="612936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885080" y="612936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4606920" y="6273720"/>
                <a:ext cx="649080" cy="108000"/>
                <a:chOff x="4606920" y="6273720"/>
                <a:chExt cx="649080" cy="1080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60692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78764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96728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14800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59280" y="6273720"/>
                <a:ext cx="649080" cy="108000"/>
                <a:chOff x="5759280" y="6273720"/>
                <a:chExt cx="649080" cy="1080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75928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4000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1964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30036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912000" y="6273720"/>
                <a:ext cx="649080" cy="108000"/>
                <a:chOff x="6912000" y="6273720"/>
                <a:chExt cx="649080" cy="1080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1200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09272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7236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45308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8064360" y="6273720"/>
                <a:ext cx="649080" cy="108000"/>
                <a:chOff x="8064360" y="6273720"/>
                <a:chExt cx="649080" cy="1080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806436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24508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424720" y="627372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605440" y="627372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 flipH="1">
              <a:off x="5508720" y="4689360"/>
              <a:ext cx="900000" cy="5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7080" y="4689360"/>
              <a:ext cx="898560" cy="5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209700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Tahoma"/>
              </a:rPr>
              <a:t>Wann kann ein Teilbaum T(O) von der Suche ausgeschlossen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022120" y="2641680"/>
            <a:ext cx="5996160" cy="406440"/>
            <a:chOff x="2022120" y="2641680"/>
            <a:chExt cx="5996160" cy="406440"/>
          </a:xfrm>
        </p:grpSpPr>
        <p:sp>
          <p:nvSpPr>
            <p:cNvPr id="507" name=""/>
            <p:cNvSpPr/>
            <p:nvPr/>
          </p:nvSpPr>
          <p:spPr>
            <a:xfrm>
              <a:off x="79246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1036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03640" y="26751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594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62480" y="26751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2604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340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750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6872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66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986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928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ffff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82560" y="26751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ffff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95640" y="2675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ffff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19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90880" y="267516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760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33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85960" y="2675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579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38600" y="26751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6088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23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39840" y="267516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225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69800" y="267516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7652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66ffff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9480" y="2675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66ffff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22120" y="2675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66ffff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29480" y="2849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7040" y="2849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64440" y="26416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16480" y="2641680"/>
              <a:ext cx="198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1440" y="2641680"/>
              <a:ext cx="200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52200" y="264168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27440" y="26416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43360" y="26416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440000" y="4689360"/>
            <a:ext cx="1403280" cy="1368720"/>
            <a:chOff x="1440000" y="4689360"/>
            <a:chExt cx="1403280" cy="1368720"/>
          </a:xfrm>
        </p:grpSpPr>
        <p:sp>
          <p:nvSpPr>
            <p:cNvPr id="546" name=""/>
            <p:cNvSpPr/>
            <p:nvPr/>
          </p:nvSpPr>
          <p:spPr>
            <a:xfrm>
              <a:off x="1440000" y="4689360"/>
              <a:ext cx="1368360" cy="136872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00360" y="533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122560" y="5265720"/>
              <a:ext cx="684000" cy="108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68560" y="5319720"/>
              <a:ext cx="10800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68360" y="5265720"/>
              <a:ext cx="5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00"/>
                  </a:solidFill>
                  <a:latin typeface="Tahoma"/>
                </a:rPr>
                <a:t>r(O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5280" y="3249720"/>
            <a:ext cx="1044720" cy="1008000"/>
            <a:chOff x="2735280" y="3249720"/>
            <a:chExt cx="1044720" cy="1008000"/>
          </a:xfrm>
        </p:grpSpPr>
        <p:sp>
          <p:nvSpPr>
            <p:cNvPr id="552" name=""/>
            <p:cNvSpPr/>
            <p:nvPr/>
          </p:nvSpPr>
          <p:spPr>
            <a:xfrm>
              <a:off x="2735280" y="3249720"/>
              <a:ext cx="1008000" cy="1008000"/>
            </a:xfrm>
            <a:prstGeom prst="ellipse">
              <a:avLst/>
            </a:prstGeom>
            <a:solidFill>
              <a:srgbClr val="ff6600">
                <a:alpha val="30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14560" y="324972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0" y="3754440"/>
              <a:ext cx="108000" cy="50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86000" y="3700440"/>
              <a:ext cx="108000" cy="108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3640" y="3753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6600"/>
                  </a:solidFill>
                  <a:latin typeface="Tahoma"/>
                </a:rPr>
                <a:t>r(Q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 flipV="1">
            <a:off x="2124000" y="3789000"/>
            <a:ext cx="1079640" cy="1547640"/>
          </a:xfrm>
          <a:prstGeom prst="line">
            <a:avLst/>
          </a:prstGeom>
          <a:ln cap="rnd" w="25560">
            <a:solidFill>
              <a:srgbClr val="66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79640" y="411336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ffff"/>
                </a:solidFill>
                <a:latin typeface="Tahoma"/>
              </a:rPr>
              <a:t>d(O,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40360" y="5408640"/>
            <a:ext cx="46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ABER</a:t>
            </a: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: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9966"/>
                </a:solidFill>
                <a:latin typeface="Tahoma"/>
              </a:rPr>
              <a:t>Berechnung von </a:t>
            </a:r>
            <a:r>
              <a:rPr b="0" lang="de-DE" sz="2000" spc="-1" strike="noStrike">
                <a:solidFill>
                  <a:srgbClr val="66ffff"/>
                </a:solidFill>
                <a:latin typeface="Tahoma"/>
              </a:rPr>
              <a:t>d(O,Q)</a:t>
            </a:r>
            <a:r>
              <a:rPr b="0" lang="de-DE" sz="2000" spc="-1" strike="noStrike">
                <a:solidFill>
                  <a:srgbClr val="ff9966"/>
                </a:solidFill>
                <a:latin typeface="Tahoma"/>
              </a:rPr>
              <a:t> nöti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63400" y="26416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mma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116000" y="3098880"/>
            <a:ext cx="1187640" cy="4683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9280" y="3098880"/>
            <a:ext cx="1152720" cy="4683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77080" y="3098880"/>
            <a:ext cx="2842920" cy="4683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036080" y="3063960"/>
            <a:ext cx="7734600" cy="465120"/>
            <a:chOff x="1036080" y="3063960"/>
            <a:chExt cx="7734600" cy="465120"/>
          </a:xfrm>
        </p:grpSpPr>
        <p:sp>
          <p:nvSpPr>
            <p:cNvPr id="565" name=""/>
            <p:cNvSpPr/>
            <p:nvPr/>
          </p:nvSpPr>
          <p:spPr>
            <a:xfrm>
              <a:off x="866484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3436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9328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4876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7240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27520" y="31370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0244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6580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3568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424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4972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93600" y="31021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3376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0080" y="31021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4500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6072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14400" y="31021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5756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36080" y="31021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7368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188200" y="31370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280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02600" y="31370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228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4176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06960" y="31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750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89520" y="3102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5412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03560" y="3102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112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576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50960" y="3102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188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9652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62080" y="3102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02720" y="3300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88400" y="3300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48440" y="3098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48080" y="3098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45880" y="3098880"/>
              <a:ext cx="253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49400" y="30639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49400" y="30639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55120" y="3063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036080" y="3063960"/>
            <a:ext cx="7734600" cy="465120"/>
            <a:chOff x="1036080" y="3063960"/>
            <a:chExt cx="7734600" cy="465120"/>
          </a:xfrm>
        </p:grpSpPr>
        <p:sp>
          <p:nvSpPr>
            <p:cNvPr id="610" name=""/>
            <p:cNvSpPr/>
            <p:nvPr/>
          </p:nvSpPr>
          <p:spPr>
            <a:xfrm>
              <a:off x="866484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36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9328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4876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240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27520" y="31370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02440" y="31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6580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3568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424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4972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93600" y="31021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3376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70080" y="31021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4500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6072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14400" y="31021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57560" y="31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36080" y="31021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7368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88200" y="31370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5280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02600" y="31370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3228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1760" y="31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06960" y="31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750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89520" y="3102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5412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03560" y="3102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112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8576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50960" y="3102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880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96520" y="3102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62080" y="3102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02720" y="3300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66cc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88400" y="3300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66ff66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48440" y="3098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48080" y="3098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45880" y="3098880"/>
              <a:ext cx="253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49400" y="30639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49400" y="30639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55120" y="3063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Ähnlichkeitssuche im M-Baum (i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1916280"/>
            <a:ext cx="70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Tahoma"/>
              </a:rPr>
              <a:t>Wie kann ein Teilbaum T(O)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ohne neue Distanzberechnung</a:t>
            </a:r>
            <a:r>
              <a:rPr b="0" lang="en-US" sz="2000" spc="-1" strike="noStrike">
                <a:solidFill>
                  <a:srgbClr val="ff9966"/>
                </a:solidFill>
                <a:latin typeface="Tahoma"/>
              </a:rPr>
              <a:t> ausgeschlossen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-451800" y="2733840"/>
            <a:ext cx="4807800" cy="4028400"/>
            <a:chOff x="-451800" y="2733840"/>
            <a:chExt cx="4807800" cy="4028400"/>
          </a:xfrm>
        </p:grpSpPr>
        <p:grpSp>
          <p:nvGrpSpPr>
            <p:cNvPr id="657" name=""/>
            <p:cNvGrpSpPr/>
            <p:nvPr/>
          </p:nvGrpSpPr>
          <p:grpSpPr>
            <a:xfrm>
              <a:off x="-451800" y="2733840"/>
              <a:ext cx="4807800" cy="4028400"/>
              <a:chOff x="-451800" y="2733840"/>
              <a:chExt cx="4807800" cy="4028400"/>
            </a:xfrm>
          </p:grpSpPr>
          <p:sp>
            <p:nvSpPr>
              <p:cNvPr id="658" name=""/>
              <p:cNvSpPr/>
              <p:nvPr/>
            </p:nvSpPr>
            <p:spPr>
              <a:xfrm>
                <a:off x="3348000" y="3943440"/>
                <a:ext cx="963720" cy="965160"/>
              </a:xfrm>
              <a:prstGeom prst="ellipse">
                <a:avLst/>
              </a:prstGeom>
              <a:solidFill>
                <a:srgbClr val="ff6600">
                  <a:alpha val="20000"/>
                </a:srgbClr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27520" y="4437000"/>
                <a:ext cx="52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6600"/>
                    </a:solidFill>
                    <a:latin typeface="Tahoma"/>
                  </a:rPr>
                  <a:t>r(Q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06640" y="5040360"/>
                <a:ext cx="784080" cy="784080"/>
              </a:xfrm>
              <a:prstGeom prst="ellipse">
                <a:avLst/>
              </a:prstGeom>
              <a:solidFill>
                <a:srgbClr val="ffff00">
                  <a:alpha val="20000"/>
                </a:srgbClr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12920" y="5411880"/>
                <a:ext cx="28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2397240" y="5370480"/>
                <a:ext cx="392040" cy="61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376360" y="537048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00"/>
                    </a:solidFill>
                    <a:latin typeface="Tahoma"/>
                  </a:rPr>
                  <a:t>r(O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656160" y="4029120"/>
                <a:ext cx="44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66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30760" y="4454640"/>
                <a:ext cx="56880" cy="450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87280" y="4473720"/>
                <a:ext cx="4636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r>
                  <a:rPr b="0" lang="de-DE" sz="1600" spc="-1" strike="noStrike" baseline="-25000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803000">
                <a:off x="87840" y="3274200"/>
                <a:ext cx="2949480" cy="294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90" y="978"/>
                    </a:moveTo>
                    <a:arcTo wR="10800" hR="10800" stAng="-3925901" swAng="70084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90" y="978"/>
                    </a:moveTo>
                    <a:arcTo wR="10800" hR="10800" stAng="-3925901" swAng="700842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1763640" y="4437000"/>
                <a:ext cx="1979640" cy="28728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27280" y="4797360"/>
                <a:ext cx="612720" cy="611280"/>
              </a:xfrm>
              <a:prstGeom prst="line">
                <a:avLst/>
              </a:prstGeom>
              <a:ln w="25560">
                <a:solidFill>
                  <a:srgbClr val="ff66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40000" y="5373720"/>
                <a:ext cx="108000" cy="108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76760" y="4371840"/>
                <a:ext cx="108000" cy="108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55640" y="46893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021040" y="4221000"/>
                <a:ext cx="87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66ff66"/>
                    </a:solidFill>
                    <a:latin typeface="Tahoma"/>
                  </a:rPr>
                  <a:t>d(O</a:t>
                </a:r>
                <a:r>
                  <a:rPr b="0" lang="de-DE" sz="1600" spc="-1" strike="noStrike" baseline="-25000">
                    <a:solidFill>
                      <a:srgbClr val="66ff66"/>
                    </a:solidFill>
                    <a:latin typeface="Tahoma"/>
                  </a:rPr>
                  <a:t>p</a:t>
                </a:r>
                <a:r>
                  <a:rPr b="0" lang="de-DE" sz="1600" spc="-1" strike="noStrike">
                    <a:solidFill>
                      <a:srgbClr val="66ff66"/>
                    </a:solidFill>
                    <a:latin typeface="Tahoma"/>
                  </a:rPr>
                  <a:t>,Q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55960" y="5013360"/>
                <a:ext cx="87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66cc"/>
                    </a:solidFill>
                    <a:latin typeface="Tahoma"/>
                  </a:rPr>
                  <a:t>d(O,O</a:t>
                </a:r>
                <a:r>
                  <a:rPr b="0" lang="de-DE" sz="1600" spc="-1" strike="noStrike" baseline="-25000">
                    <a:solidFill>
                      <a:srgbClr val="ff66cc"/>
                    </a:solidFill>
                    <a:latin typeface="Tahoma"/>
                  </a:rPr>
                  <a:t>p</a:t>
                </a:r>
                <a:r>
                  <a:rPr b="0" lang="de-DE" sz="1600" spc="-1" strike="noStrike">
                    <a:solidFill>
                      <a:srgbClr val="ff66cc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1365120" y="3627360"/>
              <a:ext cx="6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380760" y="2389680"/>
            <a:ext cx="5115240" cy="4895280"/>
            <a:chOff x="3380760" y="2389680"/>
            <a:chExt cx="5115240" cy="4895280"/>
          </a:xfrm>
        </p:grpSpPr>
        <p:sp>
          <p:nvSpPr>
            <p:cNvPr id="677" name=""/>
            <p:cNvSpPr/>
            <p:nvPr/>
          </p:nvSpPr>
          <p:spPr>
            <a:xfrm>
              <a:off x="5423040" y="4616280"/>
              <a:ext cx="463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r>
                <a:rPr b="0" lang="de-DE" sz="1600" spc="-1" strike="noStrike" baseline="-25000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803000">
              <a:off x="4036680" y="3045960"/>
              <a:ext cx="3583800" cy="358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9" y="562"/>
                  </a:moveTo>
                  <a:arcTo wR="10800" hR="10800" stAng="-4286067" swAng="736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9" y="562"/>
                  </a:moveTo>
                  <a:arcTo wR="10800" hR="10800" stAng="-4286067" swAng="7368590"/>
                </a:path>
              </a:pathLst>
            </a:custGeom>
            <a:noFill/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5999040" y="4435200"/>
              <a:ext cx="1008360" cy="4316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62680" y="4940280"/>
              <a:ext cx="1944720" cy="1044720"/>
            </a:xfrm>
            <a:prstGeom prst="line">
              <a:avLst/>
            </a:prstGeom>
            <a:ln w="25560">
              <a:solidFill>
                <a:srgbClr val="ff66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7583400" y="5624640"/>
              <a:ext cx="912600" cy="784080"/>
              <a:chOff x="7583400" y="5624640"/>
              <a:chExt cx="912600" cy="784080"/>
            </a:xfrm>
          </p:grpSpPr>
          <p:sp>
            <p:nvSpPr>
              <p:cNvPr id="682" name=""/>
              <p:cNvSpPr/>
              <p:nvPr/>
            </p:nvSpPr>
            <p:spPr>
              <a:xfrm>
                <a:off x="7583400" y="5624640"/>
                <a:ext cx="784080" cy="784080"/>
              </a:xfrm>
              <a:prstGeom prst="ellipse">
                <a:avLst/>
              </a:prstGeom>
              <a:solidFill>
                <a:srgbClr val="ffff00">
                  <a:alpha val="20000"/>
                </a:srgbClr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89680" y="599616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973640" y="5954760"/>
                <a:ext cx="392400" cy="61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953120" y="595476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00"/>
                    </a:solidFill>
                    <a:latin typeface="Tahoma"/>
                  </a:rPr>
                  <a:t>r(O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916760" y="5958000"/>
                <a:ext cx="107640" cy="108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575400" y="3932280"/>
              <a:ext cx="1008000" cy="965160"/>
              <a:chOff x="6575400" y="3932280"/>
              <a:chExt cx="1008000" cy="965160"/>
            </a:xfrm>
          </p:grpSpPr>
          <p:sp>
            <p:nvSpPr>
              <p:cNvPr id="688" name=""/>
              <p:cNvSpPr/>
              <p:nvPr/>
            </p:nvSpPr>
            <p:spPr>
              <a:xfrm>
                <a:off x="6575400" y="3932280"/>
                <a:ext cx="963360" cy="965160"/>
              </a:xfrm>
              <a:prstGeom prst="ellipse">
                <a:avLst/>
              </a:prstGeom>
              <a:solidFill>
                <a:srgbClr val="ff6600">
                  <a:alpha val="20000"/>
                </a:srgbClr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54920" y="4425840"/>
                <a:ext cx="52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6600"/>
                    </a:solidFill>
                    <a:latin typeface="Tahoma"/>
                  </a:rPr>
                  <a:t>r(Q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83200" y="4017960"/>
                <a:ext cx="44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66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57800" y="4443480"/>
                <a:ext cx="57240" cy="450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03800" y="4360680"/>
                <a:ext cx="108000" cy="108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5891040" y="4832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43720" y="4292640"/>
              <a:ext cx="87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66ff66"/>
                  </a:solidFill>
                  <a:latin typeface="Tahoma"/>
                </a:rPr>
                <a:t>d(O</a:t>
              </a:r>
              <a:r>
                <a:rPr b="0" lang="de-DE" sz="1600" spc="-1" strike="noStrike" baseline="-25000">
                  <a:solidFill>
                    <a:srgbClr val="66ff66"/>
                  </a:solidFill>
                  <a:latin typeface="Tahoma"/>
                </a:rPr>
                <a:t>p</a:t>
              </a:r>
              <a:r>
                <a:rPr b="0" lang="de-DE" sz="1600" spc="-1" strike="noStrike">
                  <a:solidFill>
                    <a:srgbClr val="66ff66"/>
                  </a:solidFill>
                  <a:latin typeface="Tahoma"/>
                </a:rPr>
                <a:t>,Q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31000" y="5408640"/>
              <a:ext cx="870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66cc"/>
                  </a:solidFill>
                  <a:latin typeface="Tahoma"/>
                </a:rPr>
                <a:t>d(O,O</a:t>
              </a:r>
              <a:r>
                <a:rPr b="0" lang="de-DE" sz="1600" spc="-1" strike="noStrike" baseline="-25000">
                  <a:solidFill>
                    <a:srgbClr val="ff66cc"/>
                  </a:solidFill>
                  <a:latin typeface="Tahoma"/>
                </a:rPr>
                <a:t>p</a:t>
              </a:r>
              <a:r>
                <a:rPr b="0" lang="de-DE" sz="1600" spc="-1" strike="noStrike">
                  <a:solidFill>
                    <a:srgbClr val="ff66cc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59280" y="3627360"/>
              <a:ext cx="6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26416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mma 2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201840" y="2673360"/>
            <a:ext cx="2765520" cy="4032360"/>
          </a:xfrm>
          <a:custGeom>
            <a:avLst/>
            <a:gdLst/>
            <a:ahLst/>
            <a:rect l="l" t="t" r="r" b="b"/>
            <a:pathLst>
              <a:path w="1742" h="2540">
                <a:moveTo>
                  <a:pt x="590" y="408"/>
                </a:moveTo>
                <a:cubicBezTo>
                  <a:pt x="930" y="204"/>
                  <a:pt x="1270" y="0"/>
                  <a:pt x="1270" y="0"/>
                </a:cubicBezTo>
                <a:cubicBezTo>
                  <a:pt x="1417" y="185"/>
                  <a:pt x="1742" y="764"/>
                  <a:pt x="1474" y="1519"/>
                </a:cubicBezTo>
                <a:cubicBezTo>
                  <a:pt x="1206" y="2274"/>
                  <a:pt x="473" y="2506"/>
                  <a:pt x="227" y="2540"/>
                </a:cubicBezTo>
                <a:cubicBezTo>
                  <a:pt x="227" y="2540"/>
                  <a:pt x="0" y="1723"/>
                  <a:pt x="0" y="1723"/>
                </a:cubicBezTo>
                <a:cubicBezTo>
                  <a:pt x="187" y="1695"/>
                  <a:pt x="541" y="1594"/>
                  <a:pt x="681" y="1179"/>
                </a:cubicBezTo>
                <a:cubicBezTo>
                  <a:pt x="821" y="764"/>
                  <a:pt x="648" y="514"/>
                  <a:pt x="590" y="40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Ähnlichkeitssuche im M-Baum (ii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3922560" y="4689360"/>
            <a:ext cx="1368720" cy="1368720"/>
          </a:xfrm>
          <a:prstGeom prst="ellipse">
            <a:avLst/>
          </a:prstGeom>
          <a:solidFill>
            <a:srgbClr val="ffff00">
              <a:alpha val="2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82920" y="5337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605480" y="5265720"/>
            <a:ext cx="684000" cy="1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51480" y="5319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751280" y="5265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00"/>
                </a:solidFill>
                <a:latin typeface="Tahoma"/>
              </a:rPr>
              <a:t>r(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975280" y="3033720"/>
            <a:ext cx="1044720" cy="1008000"/>
            <a:chOff x="5975280" y="3033720"/>
            <a:chExt cx="1044720" cy="1008000"/>
          </a:xfrm>
        </p:grpSpPr>
        <p:sp>
          <p:nvSpPr>
            <p:cNvPr id="706" name=""/>
            <p:cNvSpPr/>
            <p:nvPr/>
          </p:nvSpPr>
          <p:spPr>
            <a:xfrm>
              <a:off x="5975280" y="3033720"/>
              <a:ext cx="1008000" cy="1008000"/>
            </a:xfrm>
            <a:prstGeom prst="ellipse">
              <a:avLst/>
            </a:prstGeom>
            <a:solidFill>
              <a:srgbClr val="ff6600">
                <a:alpha val="30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54560" y="303372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80000" y="3538440"/>
              <a:ext cx="108000" cy="50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26000" y="3484440"/>
              <a:ext cx="108000" cy="108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3640" y="3537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6600"/>
                  </a:solidFill>
                  <a:latin typeface="Tahoma"/>
                </a:rPr>
                <a:t>r(Q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2735280" y="37893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201840" y="4149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1803000">
            <a:off x="572760" y="1605240"/>
            <a:ext cx="5149800" cy="514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0" y="978"/>
                </a:moveTo>
                <a:arcTo wR="10800" hR="10800" stAng="-3925901" swAng="7008424"/>
                <a:lnTo>
                  <a:pt x="10800" y="10800"/>
                </a:lnTo>
                <a:close/>
              </a:path>
              <a:path fill="none" w="21600" h="21600">
                <a:moveTo>
                  <a:pt x="15290" y="978"/>
                </a:moveTo>
                <a:arcTo wR="10800" hR="10800" stAng="-3925901" swAng="7008424"/>
              </a:path>
            </a:pathLst>
          </a:cu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1882800">
            <a:off x="1644840" y="2722680"/>
            <a:ext cx="2720520" cy="27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0" y="978"/>
                </a:moveTo>
                <a:arcTo wR="10800" hR="10800" stAng="-3925901" swAng="7008424"/>
                <a:lnTo>
                  <a:pt x="10800" y="10800"/>
                </a:lnTo>
                <a:close/>
              </a:path>
              <a:path fill="none" w="21600" h="21600">
                <a:moveTo>
                  <a:pt x="15290" y="978"/>
                </a:moveTo>
                <a:arcTo wR="10800" hR="10800" stAng="-3925901" swAng="7008424"/>
              </a:path>
            </a:pathLst>
          </a:cu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311640" y="3573360"/>
            <a:ext cx="3097080" cy="611280"/>
          </a:xfrm>
          <a:prstGeom prst="line">
            <a:avLst/>
          </a:prstGeom>
          <a:ln w="2556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11640" y="4257720"/>
            <a:ext cx="1224000" cy="1042920"/>
          </a:xfrm>
          <a:prstGeom prst="line">
            <a:avLst/>
          </a:prstGeom>
          <a:ln w="2556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53040" y="3608280"/>
            <a:ext cx="87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ff66"/>
                </a:solidFill>
                <a:latin typeface="Tahoma"/>
              </a:rPr>
              <a:t>d(O</a:t>
            </a:r>
            <a:r>
              <a:rPr b="0" lang="de-DE" sz="1600" spc="-1" strike="noStrike" baseline="-25000">
                <a:solidFill>
                  <a:srgbClr val="66ff66"/>
                </a:solidFill>
                <a:latin typeface="Tahoma"/>
              </a:rPr>
              <a:t>p</a:t>
            </a:r>
            <a:r>
              <a:rPr b="0" lang="de-DE" sz="1600" spc="-1" strike="noStrike">
                <a:solidFill>
                  <a:srgbClr val="66ff66"/>
                </a:solidFill>
                <a:latin typeface="Tahoma"/>
              </a:rPr>
              <a:t>,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48320" y="4581360"/>
            <a:ext cx="87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cc"/>
                </a:solidFill>
                <a:latin typeface="Tahoma"/>
              </a:rPr>
              <a:t>d(O,O</a:t>
            </a:r>
            <a:r>
              <a:rPr b="0" lang="de-DE" sz="1600" spc="-1" strike="noStrike" baseline="-25000">
                <a:solidFill>
                  <a:srgbClr val="ff66cc"/>
                </a:solidFill>
                <a:latin typeface="Tahoma"/>
              </a:rPr>
              <a:t>p</a:t>
            </a:r>
            <a:r>
              <a:rPr b="0" lang="de-DE" sz="1600" spc="-1" strike="noStrike">
                <a:solidFill>
                  <a:srgbClr val="ff66cc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20080" y="1881360"/>
            <a:ext cx="7734600" cy="465120"/>
            <a:chOff x="820080" y="1881360"/>
            <a:chExt cx="7734600" cy="465120"/>
          </a:xfrm>
        </p:grpSpPr>
        <p:sp>
          <p:nvSpPr>
            <p:cNvPr id="720" name=""/>
            <p:cNvSpPr/>
            <p:nvPr/>
          </p:nvSpPr>
          <p:spPr>
            <a:xfrm>
              <a:off x="844884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1836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7728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276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65640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11520" y="19544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86440" y="1954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4980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1968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7824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3372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77600" y="19195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1776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54080" y="19195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2900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66cc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4472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98400" y="19195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41560" y="1919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66ff66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20080" y="1919520"/>
              <a:ext cx="6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57680" y="19544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72200" y="19544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36800" y="19544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86600" y="195444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16280" y="19544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25760" y="19544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90960" y="19544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900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73520" y="19195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812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87560" y="19195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00"/>
                  </a:solidFill>
                  <a:latin typeface="Times New Roman"/>
                </a:rPr>
                <a:t>r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9520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976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4960" y="1919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66cc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0280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Q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80520" y="19195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46080" y="1919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66ff66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86720" y="21178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66cc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72400" y="21178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66ff66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32440" y="19162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32080" y="19162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29880" y="1916280"/>
              <a:ext cx="253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33400" y="1881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33400" y="1881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120" y="18813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008000" y="28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+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59280" y="5373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is zu 40% weniger Distanzberechnu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79280" y="1449360"/>
            <a:ext cx="468360" cy="521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Rangequ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03280" y="1449360"/>
            <a:ext cx="5724360" cy="52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S(N:node,Q:query_object,r(Q):search_radiu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et 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be parent object of node 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N is not a leaf t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O in N d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|d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,Q)-d(O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|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(Q)+r(O) t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Compute d(O,Q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d(O,Q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(Q)+r(O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S(*ptr(T(O),Q,r(Q)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else // N is a le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O in N d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|d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,Q)-d(O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|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(Q) th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Compute d(O,Q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d(O,Q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(Q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add oid(O) to resul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9640" y="2781360"/>
            <a:ext cx="5545080" cy="1260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443640" y="1447920"/>
            <a:ext cx="2412720" cy="2412720"/>
            <a:chOff x="6443640" y="1447920"/>
            <a:chExt cx="2412720" cy="2412720"/>
          </a:xfrm>
        </p:grpSpPr>
        <p:sp>
          <p:nvSpPr>
            <p:cNvPr id="771" name=""/>
            <p:cNvSpPr/>
            <p:nvPr/>
          </p:nvSpPr>
          <p:spPr>
            <a:xfrm>
              <a:off x="6443640" y="1447920"/>
              <a:ext cx="2412720" cy="2412720"/>
            </a:xfrm>
            <a:prstGeom prst="rect">
              <a:avLst/>
            </a:prstGeom>
            <a:solidFill>
              <a:srgbClr val="ffff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2"/>
            <a:stretch/>
          </p:blipFill>
          <p:spPr>
            <a:xfrm>
              <a:off x="6480000" y="1592280"/>
              <a:ext cx="2266920" cy="21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6696000" y="1592280"/>
              <a:ext cx="1871640" cy="194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660720" y="1628640"/>
              <a:ext cx="1942920" cy="1871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835280" y="2781360"/>
            <a:ext cx="2879640" cy="2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9640" y="4905360"/>
            <a:ext cx="5545080" cy="1260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280" y="1773360"/>
            <a:ext cx="2160360" cy="10080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443640" y="4219560"/>
            <a:ext cx="2412720" cy="2413080"/>
            <a:chOff x="6443640" y="4219560"/>
            <a:chExt cx="2412720" cy="2413080"/>
          </a:xfrm>
        </p:grpSpPr>
        <p:pic>
          <p:nvPicPr>
            <p:cNvPr id="779" name="" descr=""/>
            <p:cNvPicPr/>
            <p:nvPr/>
          </p:nvPicPr>
          <p:blipFill>
            <a:blip r:embed="rId3"/>
            <a:stretch/>
          </p:blipFill>
          <p:spPr>
            <a:xfrm>
              <a:off x="6911640" y="4506840"/>
              <a:ext cx="159408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730920" y="4543200"/>
              <a:ext cx="1871640" cy="194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695640" y="4579920"/>
              <a:ext cx="1942920" cy="187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43640" y="4219560"/>
              <a:ext cx="2412720" cy="2413080"/>
            </a:xfrm>
            <a:prstGeom prst="rect">
              <a:avLst/>
            </a:prstGeom>
            <a:solidFill>
              <a:srgbClr val="ffffff">
                <a:alpha val="2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232000" y="3392640"/>
            <a:ext cx="1765440" cy="2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995280" y="3681360"/>
            <a:ext cx="2629080" cy="10080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35280" y="4905360"/>
            <a:ext cx="2340000" cy="2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851280" y="1773360"/>
            <a:ext cx="2736720" cy="31320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35280" y="5553000"/>
            <a:ext cx="1224000" cy="2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995280" y="4689360"/>
            <a:ext cx="2629080" cy="9352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9640" y="148428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9640" y="191628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9640" y="213372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256536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9640" y="468936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916280"/>
            <a:ext cx="8280360" cy="5047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L -3.05556E-006 0.07709 E">
                                      <p:cBhvr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7709 L -3.05556E-006 0.15417 E">
                                      <p:cBhvr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15417 L -3.05556E-006 0.22709 E">
                                      <p:cBhvr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22709 L -3.05556E-006 0.29792 E">
                                      <p:cBhvr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29792 L -3.05556E-006 0.3757 E">
                                      <p:cBhvr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3757 L -3.05556E-006 0.45 E">
                                      <p:cBhvr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-NN-Qu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1719360" y="166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wei globale Struktu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05560" y="444816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Priority Queue </a:t>
            </a: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87200" y="227664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rray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NN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der Größe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11560" y="2744640"/>
            <a:ext cx="5770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nthält die aktuell k-nächsten Nachb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ruktur: NN[i] = [oid(O),d(O,Q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= Distanz von NN[i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= dynamischer Such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03640" y="4819680"/>
            <a:ext cx="619272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Zeiger auf „aktive“ Teilbäume, d.h. in denen potentielle Kandidaten enthalten s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ruktur: {…, [</a:t>
            </a: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T(O)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de-DE" sz="24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de-DE" sz="2000" spc="-1" strike="noStrike" baseline="-25000">
                <a:solidFill>
                  <a:srgbClr val="66ffff"/>
                </a:solidFill>
                <a:latin typeface="Tahoma"/>
              </a:rPr>
              <a:t>min</a:t>
            </a:r>
            <a:r>
              <a:rPr b="0" lang="de-DE" sz="2400" spc="-1" strike="noStrike">
                <a:solidFill>
                  <a:srgbClr val="66ffff"/>
                </a:solidFill>
                <a:latin typeface="Tahoma"/>
              </a:rPr>
              <a:t>(T(O))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], …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-NN-Query (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611280" y="2023920"/>
            <a:ext cx="2305080" cy="18734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511280" y="2924280"/>
            <a:ext cx="912600" cy="784080"/>
            <a:chOff x="1511280" y="2924280"/>
            <a:chExt cx="912600" cy="784080"/>
          </a:xfrm>
        </p:grpSpPr>
        <p:sp>
          <p:nvSpPr>
            <p:cNvPr id="803" name=""/>
            <p:cNvSpPr/>
            <p:nvPr/>
          </p:nvSpPr>
          <p:spPr>
            <a:xfrm>
              <a:off x="1511280" y="2924280"/>
              <a:ext cx="784080" cy="78408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17560" y="329580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901520" y="3254400"/>
              <a:ext cx="39240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81000" y="325440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00"/>
                  </a:solidFill>
                  <a:latin typeface="Tahoma"/>
                </a:rPr>
                <a:t>r(O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44640" y="3257640"/>
              <a:ext cx="10764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719280" y="23842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2492280"/>
            <a:ext cx="108000" cy="1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50920" y="2600280"/>
            <a:ext cx="468360" cy="43200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8680400">
            <a:off x="1421640" y="2329200"/>
            <a:ext cx="252360" cy="647640"/>
          </a:xfrm>
          <a:custGeom>
            <a:avLst/>
            <a:gdLst>
              <a:gd name="textAreaLeft" fmla="*/ 0 w 252360"/>
              <a:gd name="textAreaRight" fmla="*/ 91080 w 252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08400" y="2276640"/>
            <a:ext cx="103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de-DE" sz="1600" spc="-1" strike="noStrike" baseline="-25000">
                <a:solidFill>
                  <a:srgbClr val="66ffff"/>
                </a:solidFill>
                <a:latin typeface="Tahoma"/>
              </a:rPr>
              <a:t>min</a:t>
            </a:r>
            <a:r>
              <a:rPr b="0" lang="de-DE" sz="1600" spc="-1" strike="noStrike">
                <a:solidFill>
                  <a:srgbClr val="66ffff"/>
                </a:solidFill>
                <a:latin typeface="Tahoma"/>
              </a:rPr>
              <a:t>(T(O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03640" y="2023920"/>
            <a:ext cx="572436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untere Schrank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mi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T(O)) = max{d(O,Q)-r(O), 0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nn 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mi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T(O))&gt;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schneide T(O)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1280" y="4329000"/>
            <a:ext cx="2305080" cy="18734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11280" y="5229360"/>
            <a:ext cx="912600" cy="784080"/>
            <a:chOff x="1511280" y="5229360"/>
            <a:chExt cx="912600" cy="784080"/>
          </a:xfrm>
        </p:grpSpPr>
        <p:sp>
          <p:nvSpPr>
            <p:cNvPr id="816" name=""/>
            <p:cNvSpPr/>
            <p:nvPr/>
          </p:nvSpPr>
          <p:spPr>
            <a:xfrm>
              <a:off x="1511280" y="5229360"/>
              <a:ext cx="784080" cy="78408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17560" y="560088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901520" y="5559480"/>
              <a:ext cx="39240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81000" y="555948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00"/>
                  </a:solidFill>
                  <a:latin typeface="Tahoma"/>
                </a:rPr>
                <a:t>r(O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4640" y="5562720"/>
              <a:ext cx="10764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719280" y="468936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042920" y="4797360"/>
            <a:ext cx="108000" cy="1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4905360"/>
            <a:ext cx="1008000" cy="97164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18680400">
            <a:off x="1834200" y="4366080"/>
            <a:ext cx="252720" cy="1403280"/>
          </a:xfrm>
          <a:custGeom>
            <a:avLst/>
            <a:gdLst>
              <a:gd name="textAreaLeft" fmla="*/ 0 w 252720"/>
              <a:gd name="textAreaRight" fmla="*/ 91080 w 25272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00360" y="4581360"/>
            <a:ext cx="105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de-DE" sz="1600" spc="-1" strike="noStrike" baseline="-25000">
                <a:solidFill>
                  <a:srgbClr val="66ffff"/>
                </a:solidFill>
                <a:latin typeface="Tahoma"/>
              </a:rPr>
              <a:t>max</a:t>
            </a:r>
            <a:r>
              <a:rPr b="0" lang="de-DE" sz="1600" spc="-1" strike="noStrike">
                <a:solidFill>
                  <a:srgbClr val="66ffff"/>
                </a:solidFill>
                <a:latin typeface="Tahoma"/>
              </a:rPr>
              <a:t>(T(O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203640" y="4400640"/>
            <a:ext cx="5724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obere Schrank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max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T(O)) = d(O,Q) + r(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nn 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max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T(O))≤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füge T(O) als Platzhalter in NN 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chradius kann frühzeitig verringert w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-NN-Query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"/>
          <p:cNvSpPr/>
          <p:nvPr/>
        </p:nvSpPr>
        <p:spPr>
          <a:xfrm>
            <a:off x="971640" y="195264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uswahl des nächsten zu durchsuchenden Knot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03280" y="2744640"/>
            <a:ext cx="576108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ynamisches Pruningkriterium (&gt;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her ist Reihenfolge, in der Teilbäume durchsucht werden für die Laufzeit bedeuts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xperimentell bestes Verfahren: wähle den Teilbaum T(O) mit minimalem 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mi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T(O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511280" y="4437000"/>
            <a:ext cx="468360" cy="16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11280" y="1808280"/>
            <a:ext cx="468360" cy="234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-NN-Query (i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1908000" y="1808280"/>
            <a:ext cx="5651640" cy="23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k-NN-Search(T:root_node,Q:query_object,k:integ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R := [T,_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or i:=1 to k do: NN[i] = [_,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hile P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≠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Next_Node=ChooseNode(P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k-NN_NodeSearch(Next_Node, Q, 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908000" y="4437000"/>
            <a:ext cx="5651640" cy="162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ChooseNode(PR:priority_queue): n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et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)=min{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}, considering all the entries in P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move entry [ptr(T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,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)] from P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turn T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943280" y="184464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43280" y="227664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943280" y="249228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43280" y="2708280"/>
            <a:ext cx="5545080" cy="10810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43280" y="447372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43280" y="4905360"/>
            <a:ext cx="5545080" cy="4316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43280" y="5337000"/>
            <a:ext cx="5545080" cy="25272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943280" y="5553000"/>
            <a:ext cx="5545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-NN-Query (iv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2124000" y="2565360"/>
            <a:ext cx="2592360" cy="2872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087640" y="4797360"/>
            <a:ext cx="1979640" cy="2872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5280" y="1449360"/>
            <a:ext cx="468360" cy="496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54200" y="1449360"/>
            <a:ext cx="7489800" cy="496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k-NN_NodeSearch(N:node,Q:query_object,k:integ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et 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be the parent object of node 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N is not a leaf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O in N d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|d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,Q)-d(O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|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+r(O)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Compute d(O,Q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add [ptr(T(O)),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] to P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&lt;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NN_Update([_,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]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move from PR all entries for which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&gt;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}}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else {   /* </a:t>
            </a:r>
            <a:r>
              <a:rPr b="1" i="1" lang="de-DE" sz="1400" spc="-1" strike="noStrike">
                <a:solidFill>
                  <a:srgbClr val="000000"/>
                </a:solidFill>
                <a:latin typeface="Courier New"/>
              </a:rPr>
              <a:t>N is a leaf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O in N d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|d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,Q)-d(O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Compute d(O,Q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d(O,Q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NN_Update([oid(O),d(O,Q)]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4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move from PR all entries for which 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T(O))&gt;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}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92000" y="1484280"/>
            <a:ext cx="7417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92000" y="1916280"/>
            <a:ext cx="7417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92000" y="2133720"/>
            <a:ext cx="741708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92000" y="2349360"/>
            <a:ext cx="7417080" cy="25272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92000" y="2600280"/>
            <a:ext cx="741708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92000" y="3033720"/>
            <a:ext cx="741708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2000" y="3465360"/>
            <a:ext cx="7417080" cy="684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92000" y="5265720"/>
            <a:ext cx="7417080" cy="684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92000" y="4834080"/>
            <a:ext cx="7417080" cy="4330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92000" y="4581360"/>
            <a:ext cx="7417080" cy="25272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"/>
          <p:cNvSpPr/>
          <p:nvPr/>
        </p:nvSpPr>
        <p:spPr>
          <a:xfrm>
            <a:off x="900000" y="1844640"/>
            <a:ext cx="6948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In welchen Blattknoten soll O</a:t>
            </a:r>
            <a:r>
              <a:rPr b="0" lang="en-US" sz="2000" spc="-1" strike="noStrike" baseline="-25000">
                <a:solidFill>
                  <a:srgbClr val="ff66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eingefügt we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79640" y="2457360"/>
            <a:ext cx="806436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von der Wurzel beginnend bis auf Blattebene absen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ähle jeweils den Teilbaum T(O) für den r(O) nicht erhöht werden m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xistieren mehrere mit d(O,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(O), wähle den T(O), wobei d(O,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 minimal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onst wähle den Teilbaum, dessen r(O) am wenigsten wäch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rstellung eines M-Baums (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74560" y="1665360"/>
            <a:ext cx="468360" cy="3924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933480" y="1665360"/>
            <a:ext cx="7489800" cy="39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nsert(N:node,entry(On):M-tree_en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et S be the set of entries in node 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N is not a leaf the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et S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entries such that d(O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(O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S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≠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n let entry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is minimu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 entry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:d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-r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is minimu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 r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=d(O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(T(O*),entry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else {   /* </a:t>
            </a:r>
            <a:r>
              <a:rPr b="1" i="1" lang="de-DE" sz="1400" spc="-1" strike="noStrike">
                <a:solidFill>
                  <a:srgbClr val="000000"/>
                </a:solidFill>
                <a:latin typeface="Courier New"/>
              </a:rPr>
              <a:t>N is a leaf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f N is not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hen store entry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in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else Split(N,entry(O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971640" y="170028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71640" y="213192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971640" y="2349360"/>
            <a:ext cx="7416720" cy="25272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71640" y="256536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971640" y="278136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71640" y="3032280"/>
            <a:ext cx="7416720" cy="828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71640" y="382428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06560" y="425772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42920" y="447372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042920" y="468936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042920" y="4905360"/>
            <a:ext cx="7416720" cy="2523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971640" y="4076640"/>
            <a:ext cx="5221080" cy="4320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971640" y="4437000"/>
            <a:ext cx="5221080" cy="4320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4797360"/>
            <a:ext cx="5221080" cy="8272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8360" y="2924280"/>
            <a:ext cx="58672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aum wächst „bottom-up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Überlauf der Knoten mögl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eeignete Behandlu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ähle zwei Routingobjekte O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p1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omote“ diese in den Vaterkno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artitioniere restliche Objekte um O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p1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und O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ahoma"/>
              </a:rPr>
              <a:t>p2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408720" y="2133720"/>
            <a:ext cx="3311640" cy="140472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rstellung eines M-Baums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"/>
          <p:cNvSpPr/>
          <p:nvPr/>
        </p:nvSpPr>
        <p:spPr>
          <a:xfrm>
            <a:off x="3952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plitmanage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96000" y="3070080"/>
            <a:ext cx="1332000" cy="32400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04000" y="319572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85080" y="3195720"/>
            <a:ext cx="69840" cy="73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16436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4364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24720" y="3197160"/>
            <a:ext cx="68400" cy="716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70400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88508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416720" y="2351160"/>
            <a:ext cx="1332000" cy="32364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67640" y="24955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80360" y="24955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343280" y="2567160"/>
            <a:ext cx="360360" cy="502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8785080" y="3070080"/>
            <a:ext cx="1332000" cy="32400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874000" y="319572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055080" y="319572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23436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414000" y="319716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59472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9774360" y="319716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955080" y="319716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353440" y="2567160"/>
            <a:ext cx="1150920" cy="502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408720" y="5156280"/>
            <a:ext cx="3311640" cy="140472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96000" y="6093000"/>
            <a:ext cx="828720" cy="32364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04000" y="621828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16436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416720" y="5373720"/>
            <a:ext cx="1332000" cy="32364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280360" y="551808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056360" y="5589720"/>
            <a:ext cx="54000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785080" y="6093000"/>
            <a:ext cx="1332000" cy="32364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874000" y="621828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055080" y="621828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923436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414000" y="621972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59472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774360" y="621972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995508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353440" y="5589720"/>
            <a:ext cx="115092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96360" y="5516640"/>
            <a:ext cx="69840" cy="73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85080" y="621972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848720" y="6093000"/>
            <a:ext cx="757080" cy="32364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02800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207280" y="621972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956720" y="5587920"/>
            <a:ext cx="252360" cy="468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920000" y="5516640"/>
            <a:ext cx="68400" cy="712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443640" y="216864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43640" y="51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08720" y="3645000"/>
            <a:ext cx="3311640" cy="140472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96000" y="4581360"/>
            <a:ext cx="1332000" cy="32400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04000" y="470700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416720" y="3860640"/>
            <a:ext cx="1332000" cy="32400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596360" y="4005360"/>
            <a:ext cx="69840" cy="73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16436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34364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920000" y="4005360"/>
            <a:ext cx="68400" cy="712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70400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88508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280360" y="400680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785080" y="4581360"/>
            <a:ext cx="1332000" cy="324000"/>
          </a:xfrm>
          <a:prstGeom prst="rect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874000" y="470700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055080" y="4707000"/>
            <a:ext cx="698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923436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414000" y="470844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959472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4360" y="4708440"/>
            <a:ext cx="680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9955080" y="4708440"/>
            <a:ext cx="6840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353440" y="4078440"/>
            <a:ext cx="1150920" cy="502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443640" y="36799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63640" y="595008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1.+2.+3. = Split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985080" y="4707000"/>
            <a:ext cx="69840" cy="73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524720" y="4708440"/>
            <a:ext cx="68400" cy="716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343640" y="6218280"/>
            <a:ext cx="69840" cy="73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424720" y="6218280"/>
            <a:ext cx="68400" cy="712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rstellung eines M-Baums (i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1295280" y="2097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Anforderungen an eine Splitpolicy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835280" y="2852640"/>
            <a:ext cx="5400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inimales Volum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overingradius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niger indizierzer „toter“ R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inimale Überlapp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niger Teilbäume müssen durchsucht w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rstellung eines M-Baums (iv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611280" y="14684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Promote Strategie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0447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m_R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95640" y="1952640"/>
            <a:ext cx="6373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komplexeste bzgl. Distanzberechungen. Für alle Paare wird eine Partitionierung durchgeführt und das Paar gewählt für das r(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p1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)+r(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p2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) minimal i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900000" y="3122640"/>
            <a:ext cx="13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mM_R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95640" y="3122640"/>
            <a:ext cx="615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wie m_RAD, nur wird das Paar gewählt, dessen max(r(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p1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),r(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ahoma"/>
              </a:rPr>
              <a:t>p2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)) minimal i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900000" y="4005360"/>
            <a:ext cx="13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RAND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195640" y="400536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in Paar wird zufällig ausgewäh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lig + als Referenz geeig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11280" y="50846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Partitionierungsstrategi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936720" y="558792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Generalized Hyperpla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16360" y="5607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jedes Objekt wird seinem nächsten Routingobjekt zugeord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1619280" y="35481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eigender Dimensionalitä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619280" y="4087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achsender Anzahl der Obj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079640" y="2684520"/>
            <a:ext cx="68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rachte Anzahl der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Distanzberechnung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d Anzahl der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I/O-Op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eistungsevaluation (i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138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rstellung eines M-Bau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0280" y="1900080"/>
            <a:ext cx="4038480" cy="2237040"/>
            <a:chOff x="530280" y="1900080"/>
            <a:chExt cx="4038480" cy="2237040"/>
          </a:xfrm>
        </p:grpSpPr>
        <p:graphicFrame>
          <p:nvGraphicFramePr>
            <p:cNvPr id="979" name=""/>
            <p:cNvGraphicFramePr/>
            <p:nvPr/>
          </p:nvGraphicFramePr>
          <p:xfrm>
            <a:off x="530280" y="1900080"/>
            <a:ext cx="4038480" cy="2237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0280" y="1900080"/>
                      <a:ext cx="4038480" cy="22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1100520" y="1984320"/>
              <a:ext cx="3385080" cy="187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1433520" y="3373920"/>
              <a:ext cx="3052440" cy="333000"/>
              <a:chOff x="1433520" y="3373920"/>
              <a:chExt cx="3052440" cy="333000"/>
            </a:xfrm>
          </p:grpSpPr>
          <p:sp>
            <p:nvSpPr>
              <p:cNvPr id="983" name=""/>
              <p:cNvSpPr/>
              <p:nvPr/>
            </p:nvSpPr>
            <p:spPr>
              <a:xfrm>
                <a:off x="1433520" y="3373920"/>
                <a:ext cx="333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766520" y="3373920"/>
                <a:ext cx="352080" cy="5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118600" y="3432600"/>
                <a:ext cx="333000" cy="19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51600" y="3452400"/>
                <a:ext cx="331920" cy="9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83880" y="3550680"/>
                <a:ext cx="352080" cy="5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135960" y="3609360"/>
                <a:ext cx="333000" cy="38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468960" y="3648240"/>
                <a:ext cx="333000" cy="3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01960" y="3687120"/>
                <a:ext cx="351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154040" y="3687120"/>
                <a:ext cx="331920" cy="19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1433520" y="2160360"/>
              <a:ext cx="3052440" cy="1370520"/>
              <a:chOff x="1433520" y="2160360"/>
              <a:chExt cx="3052440" cy="1370520"/>
            </a:xfrm>
          </p:grpSpPr>
          <p:sp>
            <p:nvSpPr>
              <p:cNvPr id="993" name=""/>
              <p:cNvSpPr/>
              <p:nvPr/>
            </p:nvSpPr>
            <p:spPr>
              <a:xfrm>
                <a:off x="1433520" y="2160360"/>
                <a:ext cx="333000" cy="52920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66520" y="2689560"/>
                <a:ext cx="371880" cy="27324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138400" y="2962800"/>
                <a:ext cx="313200" cy="17604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51600" y="3138840"/>
                <a:ext cx="351720" cy="15696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03680" y="3296160"/>
                <a:ext cx="313200" cy="7740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116880" y="3373560"/>
                <a:ext cx="351720" cy="5868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68960" y="3432240"/>
                <a:ext cx="333000" cy="5940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801960" y="3492000"/>
                <a:ext cx="331920" cy="385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34240" y="3530880"/>
                <a:ext cx="351720" cy="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1414440" y="3727080"/>
              <a:ext cx="3071880" cy="97200"/>
              <a:chOff x="1414440" y="3727080"/>
              <a:chExt cx="3071880" cy="97200"/>
            </a:xfrm>
          </p:grpSpPr>
          <p:sp>
            <p:nvSpPr>
              <p:cNvPr id="1003" name=""/>
              <p:cNvSpPr/>
              <p:nvPr/>
            </p:nvSpPr>
            <p:spPr>
              <a:xfrm>
                <a:off x="1414440" y="3727080"/>
                <a:ext cx="351720" cy="187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66160" y="3745800"/>
                <a:ext cx="352080" cy="583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118600" y="3785400"/>
                <a:ext cx="333000" cy="187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451600" y="3785400"/>
                <a:ext cx="351720" cy="187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03680" y="3804480"/>
                <a:ext cx="31320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16880" y="3804480"/>
                <a:ext cx="351720" cy="1944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68960" y="3824280"/>
                <a:ext cx="33300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801960" y="3824280"/>
                <a:ext cx="39096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173120" y="3824280"/>
                <a:ext cx="31320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"/>
          <p:cNvSpPr/>
          <p:nvPr/>
        </p:nvSpPr>
        <p:spPr>
          <a:xfrm>
            <a:off x="3490920" y="208116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ff66"/>
                </a:solidFill>
                <a:latin typeface="Tahoma"/>
              </a:rPr>
              <a:t>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753080" y="1909800"/>
            <a:ext cx="3887640" cy="2228760"/>
            <a:chOff x="4753080" y="1909800"/>
            <a:chExt cx="3887640" cy="2228760"/>
          </a:xfrm>
        </p:grpSpPr>
        <p:graphicFrame>
          <p:nvGraphicFramePr>
            <p:cNvPr id="1014" name=""/>
            <p:cNvGraphicFramePr/>
            <p:nvPr/>
          </p:nvGraphicFramePr>
          <p:xfrm>
            <a:off x="4753080" y="1909800"/>
            <a:ext cx="3887640" cy="22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53080" y="1909800"/>
                      <a:ext cx="38876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6" name=""/>
            <p:cNvSpPr/>
            <p:nvPr/>
          </p:nvSpPr>
          <p:spPr>
            <a:xfrm>
              <a:off x="5307840" y="2048760"/>
              <a:ext cx="3258000" cy="180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5619600" y="2223000"/>
              <a:ext cx="2945520" cy="1003680"/>
              <a:chOff x="5619600" y="2223000"/>
              <a:chExt cx="2945520" cy="1003680"/>
            </a:xfrm>
          </p:grpSpPr>
          <p:sp>
            <p:nvSpPr>
              <p:cNvPr id="1018" name=""/>
              <p:cNvSpPr/>
              <p:nvPr/>
            </p:nvSpPr>
            <p:spPr>
              <a:xfrm flipV="1">
                <a:off x="5619600" y="3089160"/>
                <a:ext cx="346680" cy="1375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5966280" y="2950200"/>
                <a:ext cx="311400" cy="1389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>
                <a:off x="6277680" y="2846160"/>
                <a:ext cx="346680" cy="1036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6624720" y="2775600"/>
                <a:ext cx="311760" cy="702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6936480" y="2603160"/>
                <a:ext cx="311760" cy="172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7248240" y="2534040"/>
                <a:ext cx="346680" cy="687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595280" y="2326680"/>
                <a:ext cx="311400" cy="2073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7906680" y="2223000"/>
                <a:ext cx="311760" cy="1036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18440" y="2223000"/>
                <a:ext cx="346680" cy="334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5619600" y="2672280"/>
              <a:ext cx="2945520" cy="762480"/>
              <a:chOff x="5619600" y="2672280"/>
              <a:chExt cx="2945520" cy="762480"/>
            </a:xfrm>
          </p:grpSpPr>
          <p:sp>
            <p:nvSpPr>
              <p:cNvPr id="1028" name=""/>
              <p:cNvSpPr/>
              <p:nvPr/>
            </p:nvSpPr>
            <p:spPr>
              <a:xfrm flipV="1">
                <a:off x="5619600" y="3331080"/>
                <a:ext cx="346680" cy="103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966280" y="3227040"/>
                <a:ext cx="311400" cy="103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6277680" y="3123000"/>
                <a:ext cx="311760" cy="103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6589440" y="3054240"/>
                <a:ext cx="346680" cy="684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6936480" y="2950560"/>
                <a:ext cx="311760" cy="103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7248240" y="2914920"/>
                <a:ext cx="346680" cy="35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7595280" y="2775960"/>
                <a:ext cx="311400" cy="13896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7906680" y="2672280"/>
                <a:ext cx="311760" cy="1036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218440" y="2672280"/>
                <a:ext cx="346680" cy="702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619600" y="2811240"/>
              <a:ext cx="2945520" cy="623160"/>
              <a:chOff x="5619600" y="2811240"/>
              <a:chExt cx="2945520" cy="623160"/>
            </a:xfrm>
          </p:grpSpPr>
          <p:sp>
            <p:nvSpPr>
              <p:cNvPr id="1038" name=""/>
              <p:cNvSpPr/>
              <p:nvPr/>
            </p:nvSpPr>
            <p:spPr>
              <a:xfrm flipV="1">
                <a:off x="5619600" y="3365640"/>
                <a:ext cx="346680" cy="6876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5966280" y="3261960"/>
                <a:ext cx="311400" cy="103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6277680" y="3226680"/>
                <a:ext cx="311760" cy="349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6589440" y="3123000"/>
                <a:ext cx="346680" cy="103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6936480" y="3018960"/>
                <a:ext cx="311760" cy="103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248240" y="3018960"/>
                <a:ext cx="34668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7595280" y="2914920"/>
                <a:ext cx="311400" cy="103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906680" y="2811240"/>
                <a:ext cx="311760" cy="1033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18440" y="2811600"/>
                <a:ext cx="34668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"/>
          <p:cNvSpPr/>
          <p:nvPr/>
        </p:nvSpPr>
        <p:spPr>
          <a:xfrm>
            <a:off x="541440" y="41418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Distanzberechnu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716360" y="41418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I/O-Opera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294160" y="209088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ff66"/>
                </a:solidFill>
                <a:latin typeface="Tahoma"/>
              </a:rPr>
              <a:t>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808360" y="4508640"/>
            <a:ext cx="3543120" cy="1981080"/>
            <a:chOff x="2808360" y="4508640"/>
            <a:chExt cx="3543120" cy="1981080"/>
          </a:xfrm>
        </p:grpSpPr>
        <p:graphicFrame>
          <p:nvGraphicFramePr>
            <p:cNvPr id="1051" name=""/>
            <p:cNvGraphicFramePr/>
            <p:nvPr/>
          </p:nvGraphicFramePr>
          <p:xfrm>
            <a:off x="2808360" y="4508640"/>
            <a:ext cx="3543120" cy="1981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08360" y="4508640"/>
                      <a:ext cx="35431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3" name=""/>
            <p:cNvSpPr/>
            <p:nvPr/>
          </p:nvSpPr>
          <p:spPr>
            <a:xfrm>
              <a:off x="3294000" y="4579920"/>
              <a:ext cx="2987640" cy="165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3600360" y="5661000"/>
              <a:ext cx="2664000" cy="431640"/>
              <a:chOff x="3600360" y="5661000"/>
              <a:chExt cx="2664000" cy="431640"/>
            </a:xfrm>
          </p:grpSpPr>
          <p:sp>
            <p:nvSpPr>
              <p:cNvPr id="1055" name=""/>
              <p:cNvSpPr/>
              <p:nvPr/>
            </p:nvSpPr>
            <p:spPr>
              <a:xfrm flipV="1">
                <a:off x="3600360" y="6021000"/>
                <a:ext cx="287280" cy="71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3887640" y="5984640"/>
                <a:ext cx="289080" cy="363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4176720" y="5948280"/>
                <a:ext cx="324000" cy="363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500720" y="5876640"/>
                <a:ext cx="287280" cy="71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788000" y="5805720"/>
                <a:ext cx="288720" cy="712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076720" y="5805720"/>
                <a:ext cx="28728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364000" y="5769000"/>
                <a:ext cx="324000" cy="367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5688000" y="5661000"/>
                <a:ext cx="289080" cy="1080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77080" y="5661000"/>
                <a:ext cx="287280" cy="367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3600360" y="5697720"/>
              <a:ext cx="2664000" cy="358560"/>
              <a:chOff x="3600360" y="5697720"/>
              <a:chExt cx="2664000" cy="358560"/>
            </a:xfrm>
          </p:grpSpPr>
          <p:sp>
            <p:nvSpPr>
              <p:cNvPr id="1065" name=""/>
              <p:cNvSpPr/>
              <p:nvPr/>
            </p:nvSpPr>
            <p:spPr>
              <a:xfrm>
                <a:off x="3600360" y="6021360"/>
                <a:ext cx="287280" cy="349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3887640" y="6021000"/>
                <a:ext cx="289080" cy="349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4176720" y="5984640"/>
                <a:ext cx="324000" cy="3636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4500720" y="5913720"/>
                <a:ext cx="287280" cy="71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788000" y="5913720"/>
                <a:ext cx="2887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5076720" y="5840280"/>
                <a:ext cx="324000" cy="730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5400720" y="5768640"/>
                <a:ext cx="287280" cy="7164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688000" y="5769000"/>
                <a:ext cx="289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5977080" y="5697720"/>
                <a:ext cx="287280" cy="71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3600360" y="4797000"/>
              <a:ext cx="2664000" cy="935280"/>
              <a:chOff x="3600360" y="4797000"/>
              <a:chExt cx="2664000" cy="935280"/>
            </a:xfrm>
          </p:grpSpPr>
          <p:sp>
            <p:nvSpPr>
              <p:cNvPr id="1075" name=""/>
              <p:cNvSpPr/>
              <p:nvPr/>
            </p:nvSpPr>
            <p:spPr>
              <a:xfrm flipV="1">
                <a:off x="3600360" y="5660640"/>
                <a:ext cx="287280" cy="7164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3887640" y="5553000"/>
                <a:ext cx="289080" cy="1080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4176720" y="5445000"/>
                <a:ext cx="324000" cy="10764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4500720" y="5337360"/>
                <a:ext cx="287280" cy="1080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788000" y="5192640"/>
                <a:ext cx="288720" cy="1447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5076720" y="5121360"/>
                <a:ext cx="324000" cy="712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400720" y="4976640"/>
                <a:ext cx="287280" cy="14436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5688000" y="4832280"/>
                <a:ext cx="289080" cy="1447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5977080" y="4797000"/>
                <a:ext cx="287280" cy="349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2448000" y="6491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üte des Ba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313080" y="461628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ff66"/>
                </a:solidFill>
                <a:latin typeface="Tahoma"/>
              </a:rPr>
              <a:t>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eistungsevaluation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38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usführen einer 10-NN-Qu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457200" y="2276640"/>
            <a:ext cx="4038480" cy="2301840"/>
            <a:chOff x="457200" y="2276640"/>
            <a:chExt cx="4038480" cy="2301840"/>
          </a:xfrm>
        </p:grpSpPr>
        <p:graphicFrame>
          <p:nvGraphicFramePr>
            <p:cNvPr id="1089" name=""/>
            <p:cNvGraphicFramePr/>
            <p:nvPr/>
          </p:nvGraphicFramePr>
          <p:xfrm>
            <a:off x="457200" y="2276640"/>
            <a:ext cx="4038480" cy="2301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276640"/>
                      <a:ext cx="403848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1006200" y="2383920"/>
              <a:ext cx="3424680" cy="189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1369080" y="2846520"/>
              <a:ext cx="3061440" cy="1288800"/>
              <a:chOff x="1369080" y="2846520"/>
              <a:chExt cx="3061440" cy="1288800"/>
            </a:xfrm>
          </p:grpSpPr>
          <p:sp>
            <p:nvSpPr>
              <p:cNvPr id="1093" name=""/>
              <p:cNvSpPr/>
              <p:nvPr/>
            </p:nvSpPr>
            <p:spPr>
              <a:xfrm flipV="1">
                <a:off x="1369080" y="4014720"/>
                <a:ext cx="321120" cy="1206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1690200" y="3873960"/>
                <a:ext cx="342720" cy="1411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2033280" y="3773160"/>
                <a:ext cx="342720" cy="100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2376360" y="3611880"/>
                <a:ext cx="341640" cy="1612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2718000" y="3410640"/>
                <a:ext cx="342720" cy="2005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3061080" y="3330360"/>
                <a:ext cx="341640" cy="80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3402720" y="3067920"/>
                <a:ext cx="342720" cy="2617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3745800" y="2846520"/>
                <a:ext cx="342000" cy="2217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087800" y="2846520"/>
                <a:ext cx="3427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1369080" y="3209760"/>
              <a:ext cx="3061440" cy="986400"/>
              <a:chOff x="1369080" y="3209760"/>
              <a:chExt cx="3061440" cy="986400"/>
            </a:xfrm>
          </p:grpSpPr>
          <p:sp>
            <p:nvSpPr>
              <p:cNvPr id="1103" name=""/>
              <p:cNvSpPr/>
              <p:nvPr/>
            </p:nvSpPr>
            <p:spPr>
              <a:xfrm flipV="1">
                <a:off x="1369080" y="4115520"/>
                <a:ext cx="321120" cy="8064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1690200" y="4015080"/>
                <a:ext cx="342720" cy="1000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033280" y="3934440"/>
                <a:ext cx="342720" cy="8064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376360" y="3813120"/>
                <a:ext cx="341640" cy="1206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718000" y="3672360"/>
                <a:ext cx="342720" cy="141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061080" y="3611520"/>
                <a:ext cx="341640" cy="60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3402720" y="3369960"/>
                <a:ext cx="342720" cy="24156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3745800" y="3209760"/>
                <a:ext cx="342000" cy="16056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87800" y="3209760"/>
                <a:ext cx="3427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1369080" y="2423520"/>
              <a:ext cx="3061440" cy="1711800"/>
              <a:chOff x="1369080" y="2423520"/>
              <a:chExt cx="3061440" cy="1711800"/>
            </a:xfrm>
          </p:grpSpPr>
          <p:sp>
            <p:nvSpPr>
              <p:cNvPr id="1113" name=""/>
              <p:cNvSpPr/>
              <p:nvPr/>
            </p:nvSpPr>
            <p:spPr>
              <a:xfrm flipV="1">
                <a:off x="1369080" y="4014720"/>
                <a:ext cx="321120" cy="1206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1690200" y="3873960"/>
                <a:ext cx="342720" cy="14112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2033280" y="3713400"/>
                <a:ext cx="362160" cy="16056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2395800" y="3511800"/>
                <a:ext cx="322200" cy="2016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2718000" y="3229200"/>
                <a:ext cx="342720" cy="28224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3061080" y="3108240"/>
                <a:ext cx="341640" cy="1206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3402720" y="2725200"/>
                <a:ext cx="342720" cy="382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745800" y="2464200"/>
                <a:ext cx="342000" cy="26100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4087800" y="2423520"/>
                <a:ext cx="342720" cy="4068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2" name=""/>
          <p:cNvSpPr/>
          <p:nvPr/>
        </p:nvSpPr>
        <p:spPr>
          <a:xfrm>
            <a:off x="1008000" y="242568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ff66"/>
                </a:solidFill>
                <a:latin typeface="Tahoma"/>
              </a:rPr>
              <a:t>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4648320" y="2281320"/>
          <a:ext cx="4038480" cy="23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281320"/>
                    <a:ext cx="4038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"/>
          <p:cNvSpPr/>
          <p:nvPr/>
        </p:nvSpPr>
        <p:spPr>
          <a:xfrm>
            <a:off x="5184720" y="2389320"/>
            <a:ext cx="3456000" cy="190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543640" y="2893680"/>
            <a:ext cx="3060720" cy="971640"/>
            <a:chOff x="5543640" y="2893680"/>
            <a:chExt cx="3060720" cy="971640"/>
          </a:xfrm>
        </p:grpSpPr>
        <p:sp>
          <p:nvSpPr>
            <p:cNvPr id="1127" name=""/>
            <p:cNvSpPr/>
            <p:nvPr/>
          </p:nvSpPr>
          <p:spPr>
            <a:xfrm flipV="1">
              <a:off x="5543640" y="3614400"/>
              <a:ext cx="360360" cy="25092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5904000" y="3470040"/>
              <a:ext cx="323640" cy="14436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227640" y="3398400"/>
              <a:ext cx="324000" cy="716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551640" y="3289320"/>
              <a:ext cx="360360" cy="1094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912000" y="3218040"/>
              <a:ext cx="360360" cy="7128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7272360" y="3146040"/>
              <a:ext cx="324000" cy="716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7596360" y="3038400"/>
              <a:ext cx="323640" cy="10800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7920000" y="2930400"/>
              <a:ext cx="360360" cy="10800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8280360" y="2893680"/>
              <a:ext cx="324000" cy="3636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543640" y="3109680"/>
            <a:ext cx="3060720" cy="792360"/>
            <a:chOff x="5543640" y="3109680"/>
            <a:chExt cx="3060720" cy="792360"/>
          </a:xfrm>
        </p:grpSpPr>
        <p:sp>
          <p:nvSpPr>
            <p:cNvPr id="1137" name=""/>
            <p:cNvSpPr/>
            <p:nvPr/>
          </p:nvSpPr>
          <p:spPr>
            <a:xfrm flipV="1">
              <a:off x="5543640" y="3722760"/>
              <a:ext cx="360360" cy="179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5904000" y="3614760"/>
              <a:ext cx="323640" cy="108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227640" y="3578040"/>
              <a:ext cx="360360" cy="36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588000" y="3470400"/>
              <a:ext cx="324000" cy="108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6912000" y="3398400"/>
              <a:ext cx="360360" cy="71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7272360" y="3362040"/>
              <a:ext cx="324000" cy="36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7596360" y="3217680"/>
              <a:ext cx="323640" cy="144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7920000" y="3146040"/>
              <a:ext cx="360360" cy="71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280360" y="3109680"/>
              <a:ext cx="324000" cy="363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5543640" y="2606760"/>
            <a:ext cx="3060720" cy="1258560"/>
            <a:chOff x="5543640" y="2606760"/>
            <a:chExt cx="3060720" cy="1258560"/>
          </a:xfrm>
        </p:grpSpPr>
        <p:sp>
          <p:nvSpPr>
            <p:cNvPr id="1147" name=""/>
            <p:cNvSpPr/>
            <p:nvPr/>
          </p:nvSpPr>
          <p:spPr>
            <a:xfrm flipV="1">
              <a:off x="5543640" y="3614400"/>
              <a:ext cx="323640" cy="2509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5867280" y="3506760"/>
              <a:ext cx="360360" cy="1080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6227640" y="3362040"/>
              <a:ext cx="360360" cy="1443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6588000" y="3180960"/>
              <a:ext cx="324000" cy="1810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912000" y="3038040"/>
              <a:ext cx="360360" cy="1429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7272360" y="3001680"/>
              <a:ext cx="324000" cy="363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596360" y="2786040"/>
              <a:ext cx="323640" cy="2160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7920000" y="2678040"/>
              <a:ext cx="360360" cy="1080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8280360" y="2606760"/>
              <a:ext cx="324000" cy="712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5184720" y="242568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6ff66"/>
                </a:solidFill>
                <a:latin typeface="Tahoma"/>
              </a:rPr>
              <a:t>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03280" y="45799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I/O-Opera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43280" y="45799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stance-sel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79640" y="5769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stance-selectivity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967280" y="56484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#benötigter Dist. Berech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38560" y="600876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#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967280" y="6008760"/>
            <a:ext cx="25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08000" y="5516640"/>
            <a:ext cx="5904000" cy="1081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eistungsevaluation (i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138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usführen einer 10-NN-Qu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57200" y="2673360"/>
          <a:ext cx="4037040" cy="23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73360"/>
                    <a:ext cx="40370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"/>
          <p:cNvSpPr/>
          <p:nvPr/>
        </p:nvSpPr>
        <p:spPr>
          <a:xfrm>
            <a:off x="1025640" y="2781360"/>
            <a:ext cx="340344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368360" y="4109760"/>
            <a:ext cx="3039840" cy="241200"/>
            <a:chOff x="1368360" y="4109760"/>
            <a:chExt cx="3039840" cy="241200"/>
          </a:xfrm>
        </p:grpSpPr>
        <p:sp>
          <p:nvSpPr>
            <p:cNvPr id="1170" name=""/>
            <p:cNvSpPr/>
            <p:nvPr/>
          </p:nvSpPr>
          <p:spPr>
            <a:xfrm flipV="1">
              <a:off x="1368360" y="4311360"/>
              <a:ext cx="341640" cy="396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10000" y="4270320"/>
              <a:ext cx="322200" cy="406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032560" y="4270680"/>
              <a:ext cx="3621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2394720" y="4249800"/>
              <a:ext cx="321840" cy="205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716920" y="4230360"/>
              <a:ext cx="342720" cy="19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059640" y="4210200"/>
              <a:ext cx="341640" cy="201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01640" y="4210200"/>
              <a:ext cx="3423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744360" y="4169880"/>
              <a:ext cx="341640" cy="399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4086000" y="4109760"/>
              <a:ext cx="322200" cy="601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368360" y="3143160"/>
            <a:ext cx="3039840" cy="723240"/>
            <a:chOff x="1368360" y="3143160"/>
            <a:chExt cx="3039840" cy="723240"/>
          </a:xfrm>
        </p:grpSpPr>
        <p:sp>
          <p:nvSpPr>
            <p:cNvPr id="1180" name=""/>
            <p:cNvSpPr/>
            <p:nvPr/>
          </p:nvSpPr>
          <p:spPr>
            <a:xfrm flipV="1">
              <a:off x="1368360" y="3725640"/>
              <a:ext cx="341640" cy="1407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1710000" y="3605040"/>
              <a:ext cx="342360" cy="1206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2052720" y="3525120"/>
              <a:ext cx="341640" cy="795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2394720" y="3484080"/>
              <a:ext cx="321840" cy="40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716920" y="3363840"/>
              <a:ext cx="342720" cy="12024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059640" y="3303360"/>
              <a:ext cx="341640" cy="601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401640" y="3263040"/>
              <a:ext cx="342360" cy="399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744360" y="3243240"/>
              <a:ext cx="341640" cy="201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4086000" y="3143160"/>
              <a:ext cx="322200" cy="1000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89" name=""/>
          <p:cNvGraphicFramePr/>
          <p:nvPr/>
        </p:nvGraphicFramePr>
        <p:xfrm>
          <a:off x="4648320" y="2678040"/>
          <a:ext cx="4038480" cy="23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678040"/>
                    <a:ext cx="4038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1" name=""/>
          <p:cNvSpPr/>
          <p:nvPr/>
        </p:nvSpPr>
        <p:spPr>
          <a:xfrm>
            <a:off x="5219640" y="2741760"/>
            <a:ext cx="3421080" cy="19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5580000" y="3649680"/>
            <a:ext cx="3060720" cy="437760"/>
            <a:chOff x="5580000" y="3649680"/>
            <a:chExt cx="3060720" cy="437760"/>
          </a:xfrm>
        </p:grpSpPr>
        <p:sp>
          <p:nvSpPr>
            <p:cNvPr id="1193" name=""/>
            <p:cNvSpPr/>
            <p:nvPr/>
          </p:nvSpPr>
          <p:spPr>
            <a:xfrm flipV="1">
              <a:off x="5580000" y="4015440"/>
              <a:ext cx="324000" cy="7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5904000" y="3940920"/>
              <a:ext cx="323640" cy="7416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227640" y="3868920"/>
              <a:ext cx="360360" cy="7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588000" y="3831120"/>
              <a:ext cx="324000" cy="37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912000" y="3759120"/>
              <a:ext cx="360360" cy="72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7272360" y="3721320"/>
              <a:ext cx="324000" cy="370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596360" y="3684960"/>
              <a:ext cx="360360" cy="3672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56720" y="3684960"/>
              <a:ext cx="3236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8280360" y="3649680"/>
              <a:ext cx="360360" cy="3528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5580000" y="3108240"/>
            <a:ext cx="3060720" cy="695160"/>
            <a:chOff x="5580000" y="3108240"/>
            <a:chExt cx="3060720" cy="695160"/>
          </a:xfrm>
        </p:grpSpPr>
        <p:sp>
          <p:nvSpPr>
            <p:cNvPr id="1203" name=""/>
            <p:cNvSpPr/>
            <p:nvPr/>
          </p:nvSpPr>
          <p:spPr>
            <a:xfrm flipV="1">
              <a:off x="5580000" y="3582360"/>
              <a:ext cx="324000" cy="22104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5904000" y="3509640"/>
              <a:ext cx="323640" cy="723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6227640" y="3437280"/>
              <a:ext cx="360360" cy="727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6588000" y="3327120"/>
              <a:ext cx="360360" cy="10980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948360" y="3327480"/>
              <a:ext cx="3240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7272360" y="3290400"/>
              <a:ext cx="360360" cy="3672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7632720" y="3217680"/>
              <a:ext cx="324000" cy="723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956720" y="3143520"/>
              <a:ext cx="323640" cy="7416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8280360" y="3108240"/>
              <a:ext cx="360360" cy="352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1044720" y="28224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257800" y="278604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ff"/>
                </a:solidFill>
                <a:latin typeface="Tahoma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716360" y="50198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Distanzberechnu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03280" y="50198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I/O-Opera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087640" y="5661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kaliert gut mit wachsender Datenme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eistungsevaluation (iv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38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ahoma"/>
              </a:rPr>
              <a:t>M-Baum vs R*-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457200" y="2430360"/>
            <a:ext cx="4037040" cy="2243160"/>
            <a:chOff x="457200" y="2430360"/>
            <a:chExt cx="4037040" cy="2243160"/>
          </a:xfrm>
        </p:grpSpPr>
        <p:graphicFrame>
          <p:nvGraphicFramePr>
            <p:cNvPr id="1220" name=""/>
            <p:cNvGraphicFramePr/>
            <p:nvPr/>
          </p:nvGraphicFramePr>
          <p:xfrm>
            <a:off x="457200" y="2430360"/>
            <a:ext cx="4037040" cy="2243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430360"/>
                      <a:ext cx="4037040" cy="22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2" name=""/>
            <p:cNvSpPr/>
            <p:nvPr/>
          </p:nvSpPr>
          <p:spPr>
            <a:xfrm>
              <a:off x="1023840" y="2514960"/>
              <a:ext cx="3395160" cy="190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1357200" y="4026960"/>
              <a:ext cx="3061440" cy="58680"/>
              <a:chOff x="1357200" y="4026960"/>
              <a:chExt cx="3061440" cy="58680"/>
            </a:xfrm>
          </p:grpSpPr>
          <p:sp>
            <p:nvSpPr>
              <p:cNvPr id="1224" name=""/>
              <p:cNvSpPr/>
              <p:nvPr/>
            </p:nvSpPr>
            <p:spPr>
              <a:xfrm>
                <a:off x="1357200" y="4026960"/>
                <a:ext cx="333720" cy="190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690920" y="4046040"/>
                <a:ext cx="353160" cy="198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44440" y="4065840"/>
                <a:ext cx="3337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378160" y="4065840"/>
                <a:ext cx="333000" cy="198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11520" y="4085640"/>
                <a:ext cx="334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045600" y="4085640"/>
                <a:ext cx="35280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398760" y="4085640"/>
                <a:ext cx="3337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732840" y="4085640"/>
                <a:ext cx="33300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065840" y="4085640"/>
                <a:ext cx="35280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1357200" y="2750400"/>
              <a:ext cx="3061440" cy="1080000"/>
              <a:chOff x="1357200" y="2750400"/>
              <a:chExt cx="3061440" cy="1080000"/>
            </a:xfrm>
          </p:grpSpPr>
          <p:sp>
            <p:nvSpPr>
              <p:cNvPr id="1234" name=""/>
              <p:cNvSpPr/>
              <p:nvPr/>
            </p:nvSpPr>
            <p:spPr>
              <a:xfrm>
                <a:off x="1357200" y="2750400"/>
                <a:ext cx="333720" cy="2948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690920" y="3045240"/>
                <a:ext cx="353160" cy="2152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044440" y="3260880"/>
                <a:ext cx="333720" cy="15660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378160" y="3417480"/>
                <a:ext cx="352800" cy="1573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731320" y="3575160"/>
                <a:ext cx="333000" cy="58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064680" y="3633840"/>
                <a:ext cx="333720" cy="385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398760" y="3672720"/>
                <a:ext cx="333720" cy="986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732840" y="3771360"/>
                <a:ext cx="333000" cy="586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5840" y="3830400"/>
                <a:ext cx="3528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4648320" y="2421000"/>
            <a:ext cx="4038480" cy="2263680"/>
            <a:chOff x="4648320" y="2421000"/>
            <a:chExt cx="4038480" cy="2263680"/>
          </a:xfrm>
        </p:grpSpPr>
        <p:graphicFrame>
          <p:nvGraphicFramePr>
            <p:cNvPr id="1244" name=""/>
            <p:cNvGraphicFramePr/>
            <p:nvPr/>
          </p:nvGraphicFramePr>
          <p:xfrm>
            <a:off x="4648320" y="2421000"/>
            <a:ext cx="4038480" cy="2263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648320" y="2421000"/>
                      <a:ext cx="4038480" cy="22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219640" y="2514600"/>
              <a:ext cx="3384720" cy="190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5543640" y="3379320"/>
              <a:ext cx="3060720" cy="576360"/>
              <a:chOff x="5543640" y="3379320"/>
              <a:chExt cx="3060720" cy="576360"/>
            </a:xfrm>
          </p:grpSpPr>
          <p:sp>
            <p:nvSpPr>
              <p:cNvPr id="1248" name=""/>
              <p:cNvSpPr/>
              <p:nvPr/>
            </p:nvSpPr>
            <p:spPr>
              <a:xfrm flipV="1">
                <a:off x="5543640" y="3882600"/>
                <a:ext cx="360360" cy="730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904000" y="3810960"/>
                <a:ext cx="323640" cy="7164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6227640" y="3740040"/>
                <a:ext cx="360360" cy="71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6588000" y="3632040"/>
                <a:ext cx="324000" cy="10800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6912000" y="3558600"/>
                <a:ext cx="324000" cy="730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236000" y="3558960"/>
                <a:ext cx="36036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7596360" y="3414240"/>
                <a:ext cx="323640" cy="14436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7920000" y="3379320"/>
                <a:ext cx="360360" cy="349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80360" y="3379680"/>
                <a:ext cx="32400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543640" y="2587680"/>
              <a:ext cx="3060720" cy="1078920"/>
              <a:chOff x="5543640" y="2587680"/>
              <a:chExt cx="3060720" cy="1078920"/>
            </a:xfrm>
          </p:grpSpPr>
          <p:sp>
            <p:nvSpPr>
              <p:cNvPr id="1258" name=""/>
              <p:cNvSpPr/>
              <p:nvPr/>
            </p:nvSpPr>
            <p:spPr>
              <a:xfrm flipV="1">
                <a:off x="5543640" y="3414240"/>
                <a:ext cx="360360" cy="25236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5904000" y="3343320"/>
                <a:ext cx="323640" cy="7128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6227640" y="3163320"/>
                <a:ext cx="360360" cy="17964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6588000" y="2982960"/>
                <a:ext cx="324000" cy="18072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6912000" y="2947680"/>
                <a:ext cx="360360" cy="3492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272360" y="2874600"/>
                <a:ext cx="324000" cy="7308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96360" y="2766960"/>
                <a:ext cx="323640" cy="10800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7920000" y="2587680"/>
                <a:ext cx="360360" cy="17928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280360" y="2587680"/>
                <a:ext cx="324000" cy="36360"/>
              </a:xfrm>
              <a:prstGeom prst="line">
                <a:avLst/>
              </a:prstGeom>
              <a:ln w="255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>
            <a:off x="5272200" y="258768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600"/>
                </a:solidFill>
                <a:latin typeface="Tahoma"/>
              </a:rPr>
              <a:t>R*-Ba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435480" y="258768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ahoma"/>
              </a:rPr>
              <a:t>mM_R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600"/>
                </a:solidFill>
                <a:latin typeface="Tahoma"/>
              </a:rPr>
              <a:t>R*-Ba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716360" y="46101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stance-selectivity b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10-NN-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03280" y="46101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zahl Distanzberechnungen bei Baumerstel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295280" y="5769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/O-Kosten sind ähnlich zwischen M- und R*-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431640" y="2276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-Baum ist eine Indexstruktur mit folgenden Eigenschaf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871640" y="2960640"/>
            <a:ext cx="60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itenorientiert, dynam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kann metrischen Raum indiz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st sowohl auf CPU-Last als auch I/O-Last optim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kaliert mit wachsender Datenmenge und steigender Dimension g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Weitere Aspek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ntegration in D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iltering M-t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ilm"/>
          <p:cNvSpPr/>
          <p:nvPr/>
        </p:nvSpPr>
        <p:spPr>
          <a:xfrm>
            <a:off x="1763640" y="2133720"/>
            <a:ext cx="290520" cy="463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ound"/>
          <p:cNvSpPr/>
          <p:nvPr/>
        </p:nvSpPr>
        <p:spPr>
          <a:xfrm>
            <a:off x="900000" y="2421000"/>
            <a:ext cx="574920" cy="43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hoto"/>
          <p:cNvSpPr/>
          <p:nvPr/>
        </p:nvSpPr>
        <p:spPr>
          <a:xfrm>
            <a:off x="2268360" y="2205000"/>
            <a:ext cx="505080" cy="3762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Music"/>
          <p:cNvSpPr/>
          <p:nvPr/>
        </p:nvSpPr>
        <p:spPr>
          <a:xfrm>
            <a:off x="2916360" y="2565360"/>
            <a:ext cx="360360" cy="316080"/>
          </a:xfrm>
          <a:prstGeom prst="pi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3716280"/>
            <a:ext cx="1366920" cy="70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2997360"/>
            <a:ext cx="358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708280"/>
            <a:ext cx="287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2708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16000" y="3068640"/>
            <a:ext cx="142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4680" y="364644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nhaltsbasierte Su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37040" y="4214880"/>
            <a:ext cx="512640" cy="1021320"/>
            <a:chOff x="5837040" y="4214880"/>
            <a:chExt cx="512640" cy="1021320"/>
          </a:xfrm>
        </p:grpSpPr>
        <p:sp>
          <p:nvSpPr>
            <p:cNvPr id="112" name=""/>
            <p:cNvSpPr/>
            <p:nvPr/>
          </p:nvSpPr>
          <p:spPr>
            <a:xfrm>
              <a:off x="5837040" y="4214880"/>
              <a:ext cx="5126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dddddd"/>
                  </a:solidFill>
                  <a:latin typeface="Symbol"/>
                  <a:ea typeface="Symbol"/>
                </a:rPr>
                <a:t></a:t>
              </a:r>
              <a:endParaRPr b="0" lang="en-US" sz="6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247640" y="508644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Ähnlichkeitsanfr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837040" y="2703600"/>
            <a:ext cx="512640" cy="1021320"/>
            <a:chOff x="5837040" y="2703600"/>
            <a:chExt cx="512640" cy="1021320"/>
          </a:xfrm>
        </p:grpSpPr>
        <p:sp>
          <p:nvSpPr>
            <p:cNvPr id="115" name=""/>
            <p:cNvSpPr/>
            <p:nvPr/>
          </p:nvSpPr>
          <p:spPr>
            <a:xfrm>
              <a:off x="5837040" y="2703600"/>
              <a:ext cx="5126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dddddd"/>
                  </a:solidFill>
                  <a:latin typeface="Symbol"/>
                  <a:ea typeface="Symbol"/>
                </a:rPr>
                <a:t></a:t>
              </a:r>
              <a:endParaRPr b="0" lang="en-US" sz="6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273560" y="213372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ße Datenme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grayscl/>
            <a:lum contrast="-20000"/>
          </a:blip>
          <a:stretch/>
        </p:blipFill>
        <p:spPr>
          <a:xfrm>
            <a:off x="684360" y="4976640"/>
            <a:ext cx="1295280" cy="119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627280" y="497664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2843280" y="4581360"/>
            <a:ext cx="28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03280" y="4545000"/>
            <a:ext cx="504720" cy="3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xtensible Indexing 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2592360" y="3246480"/>
            <a:ext cx="3887640" cy="45972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gene Indexstruk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116000" y="1665360"/>
            <a:ext cx="6659640" cy="459720"/>
          </a:xfrm>
          <a:prstGeom prst="rect">
            <a:avLst/>
          </a:prstGeom>
          <a:solidFill>
            <a:srgbClr val="00c600">
              <a:alpha val="50000"/>
            </a:srgbClr>
          </a:solidFill>
          <a:ln w="1260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QL ´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2592360" y="2241720"/>
            <a:ext cx="3887280" cy="783360"/>
            <a:chOff x="2592360" y="2241720"/>
            <a:chExt cx="3887280" cy="783360"/>
          </a:xfrm>
        </p:grpSpPr>
        <p:sp>
          <p:nvSpPr>
            <p:cNvPr id="1283" name=""/>
            <p:cNvSpPr/>
            <p:nvPr/>
          </p:nvSpPr>
          <p:spPr>
            <a:xfrm>
              <a:off x="2592360" y="2565360"/>
              <a:ext cx="3887280" cy="459720"/>
            </a:xfrm>
            <a:prstGeom prst="rect">
              <a:avLst/>
            </a:prstGeom>
            <a:solidFill>
              <a:srgbClr val="00c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ahoma"/>
                </a:rPr>
                <a:t>deklarative Einbettu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92360" y="2241720"/>
              <a:ext cx="3887280" cy="323640"/>
            </a:xfrm>
            <a:prstGeom prst="triangle">
              <a:avLst>
                <a:gd name="adj" fmla="val 50000"/>
              </a:avLst>
            </a:prstGeom>
            <a:solidFill>
              <a:srgbClr val="00c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16000" y="3909960"/>
            <a:ext cx="6659640" cy="1383840"/>
            <a:chOff x="1116000" y="3909960"/>
            <a:chExt cx="6659640" cy="1383840"/>
          </a:xfrm>
        </p:grpSpPr>
        <p:sp>
          <p:nvSpPr>
            <p:cNvPr id="1286" name=""/>
            <p:cNvSpPr/>
            <p:nvPr/>
          </p:nvSpPr>
          <p:spPr>
            <a:xfrm>
              <a:off x="1116000" y="4834080"/>
              <a:ext cx="665964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atenbank-Ke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2592360" y="3909960"/>
              <a:ext cx="3887640" cy="779040"/>
              <a:chOff x="2592360" y="3909960"/>
              <a:chExt cx="3887640" cy="779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2627280" y="3909960"/>
                <a:ext cx="3852720" cy="45972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relationale Abbildu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592360" y="4365000"/>
                <a:ext cx="3887640" cy="32364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90" name=""/>
          <p:cNvGrpSpPr/>
          <p:nvPr/>
        </p:nvGrpSpPr>
        <p:grpSpPr>
          <a:xfrm>
            <a:off x="2700360" y="3716280"/>
            <a:ext cx="1379520" cy="1608480"/>
            <a:chOff x="2700360" y="3716280"/>
            <a:chExt cx="1379520" cy="1608480"/>
          </a:xfrm>
        </p:grpSpPr>
        <p:sp>
          <p:nvSpPr>
            <p:cNvPr id="1291" name=""/>
            <p:cNvSpPr/>
            <p:nvPr/>
          </p:nvSpPr>
          <p:spPr>
            <a:xfrm>
              <a:off x="2703600" y="4059000"/>
              <a:ext cx="1370880" cy="12657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create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drop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insert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delete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update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00360" y="3716280"/>
              <a:ext cx="1379520" cy="32832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99"/>
                  </a:solidFill>
                  <a:latin typeface="Arial"/>
                </a:rPr>
                <a:t>Verwaltu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4608360" y="3716280"/>
            <a:ext cx="1755720" cy="1143360"/>
            <a:chOff x="4608360" y="3716280"/>
            <a:chExt cx="1755720" cy="1143360"/>
          </a:xfrm>
        </p:grpSpPr>
        <p:sp>
          <p:nvSpPr>
            <p:cNvPr id="1294" name=""/>
            <p:cNvSpPr/>
            <p:nvPr/>
          </p:nvSpPr>
          <p:spPr>
            <a:xfrm>
              <a:off x="4608360" y="4062600"/>
              <a:ext cx="1755720" cy="7970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ope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fetch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index_close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12320" y="3716280"/>
              <a:ext cx="1747440" cy="32832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99"/>
                  </a:solidFill>
                  <a:latin typeface="Arial"/>
                </a:rPr>
                <a:t>Anfragebearbeitu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1.11111E-006 0.21667 E">
                                      <p:cBhvr>
                                        <p:cTn id="838" dur="2000" fill="hold"/>
                                        <p:tgtEl>
                                          <p:spTgt spid="1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Relationale Abbild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431640" y="1665360"/>
            <a:ext cx="4465440" cy="2266920"/>
            <a:chOff x="431640" y="1665360"/>
            <a:chExt cx="4465440" cy="2266920"/>
          </a:xfrm>
        </p:grpSpPr>
        <p:sp>
          <p:nvSpPr>
            <p:cNvPr id="1298" name=""/>
            <p:cNvSpPr/>
            <p:nvPr/>
          </p:nvSpPr>
          <p:spPr>
            <a:xfrm flipH="1">
              <a:off x="936000" y="3032280"/>
              <a:ext cx="36036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763280" y="3032280"/>
              <a:ext cx="3254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240000" y="303228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960720" y="3032280"/>
              <a:ext cx="431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2160360" y="1665360"/>
              <a:ext cx="1008000" cy="459720"/>
              <a:chOff x="2160360" y="1665360"/>
              <a:chExt cx="1008000" cy="459720"/>
            </a:xfrm>
          </p:grpSpPr>
          <p:sp>
            <p:nvSpPr>
              <p:cNvPr id="1303" name=""/>
              <p:cNvSpPr/>
              <p:nvPr/>
            </p:nvSpPr>
            <p:spPr>
              <a:xfrm>
                <a:off x="2160360" y="169704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60360" y="1665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700000" y="1665360"/>
                <a:ext cx="3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044360" y="2617920"/>
              <a:ext cx="3240000" cy="461160"/>
              <a:chOff x="1044360" y="2617920"/>
              <a:chExt cx="3240000" cy="46116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1044360" y="2617920"/>
                <a:ext cx="1008000" cy="461160"/>
                <a:chOff x="1044360" y="2617920"/>
                <a:chExt cx="1008000" cy="4611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044360" y="2649600"/>
                  <a:ext cx="1008000" cy="3952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115640" y="2617920"/>
                  <a:ext cx="46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66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547640" y="26193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9966"/>
                      </a:solidFill>
                      <a:latin typeface="Tahoma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3276360" y="2617920"/>
                <a:ext cx="1008000" cy="459720"/>
                <a:chOff x="3276360" y="2617920"/>
                <a:chExt cx="1008000" cy="4597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3276360" y="2649600"/>
                  <a:ext cx="1008000" cy="3952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347640" y="26179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99"/>
                      </a:solidFill>
                      <a:latin typeface="Tahoma"/>
                    </a:rPr>
                    <a:t>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3779640" y="2617920"/>
                  <a:ext cx="46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99ff"/>
                      </a:solidFill>
                      <a:latin typeface="Tahoma"/>
                    </a:rPr>
                    <a:t>F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5" name=""/>
            <p:cNvGrpSpPr/>
            <p:nvPr/>
          </p:nvGrpSpPr>
          <p:grpSpPr>
            <a:xfrm>
              <a:off x="431640" y="3537000"/>
              <a:ext cx="4465440" cy="395280"/>
              <a:chOff x="431640" y="3537000"/>
              <a:chExt cx="4465440" cy="395280"/>
            </a:xfrm>
          </p:grpSpPr>
          <p:sp>
            <p:nvSpPr>
              <p:cNvPr id="1316" name=""/>
              <p:cNvSpPr/>
              <p:nvPr/>
            </p:nvSpPr>
            <p:spPr>
              <a:xfrm>
                <a:off x="431640" y="353700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84000" y="353700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36720" y="353700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89080" y="3537000"/>
                <a:ext cx="1008000" cy="3952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0" name=""/>
              <p:cNvGrpSpPr/>
              <p:nvPr/>
            </p:nvGrpSpPr>
            <p:grpSpPr>
              <a:xfrm>
                <a:off x="610920" y="3681360"/>
                <a:ext cx="649080" cy="108000"/>
                <a:chOff x="610920" y="3681360"/>
                <a:chExt cx="649080" cy="10800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61092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9164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97128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15200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1763280" y="3681360"/>
                <a:ext cx="649080" cy="108000"/>
                <a:chOff x="1763280" y="3681360"/>
                <a:chExt cx="649080" cy="10800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176328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4400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2364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30436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2916000" y="3681360"/>
                <a:ext cx="649080" cy="108000"/>
                <a:chOff x="2916000" y="3681360"/>
                <a:chExt cx="649080" cy="10800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291600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09672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27636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45708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4068360" y="3681360"/>
                <a:ext cx="649080" cy="108000"/>
                <a:chOff x="4068360" y="3681360"/>
                <a:chExt cx="649080" cy="10800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06836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24908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28720" y="3681360"/>
                  <a:ext cx="10764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609440" y="36813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 flipH="1">
              <a:off x="1512720" y="2097000"/>
              <a:ext cx="900000" cy="5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81080" y="2097000"/>
              <a:ext cx="898560" cy="5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95280" y="1592280"/>
            <a:ext cx="3563640" cy="2174040"/>
            <a:chOff x="395280" y="1592280"/>
            <a:chExt cx="3563640" cy="2174040"/>
          </a:xfrm>
        </p:grpSpPr>
        <p:sp>
          <p:nvSpPr>
            <p:cNvPr id="1343" name=""/>
            <p:cNvSpPr/>
            <p:nvPr/>
          </p:nvSpPr>
          <p:spPr>
            <a:xfrm>
              <a:off x="2124000" y="159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556000" y="159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42920" y="25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40000" y="25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33880" y="25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65520" y="25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99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95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1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5759280" y="4797360"/>
            <a:ext cx="2844720" cy="1765080"/>
            <a:chOff x="5759280" y="4797360"/>
            <a:chExt cx="2844720" cy="1765080"/>
          </a:xfrm>
        </p:grpSpPr>
        <p:sp>
          <p:nvSpPr>
            <p:cNvPr id="1352" name=""/>
            <p:cNvSpPr/>
            <p:nvPr/>
          </p:nvSpPr>
          <p:spPr>
            <a:xfrm>
              <a:off x="5759280" y="4797360"/>
              <a:ext cx="2844720" cy="176508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76720" y="5530680"/>
              <a:ext cx="23400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13440" y="5241600"/>
              <a:ext cx="0" cy="11160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20000" y="52066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99"/>
                  </a:solidFill>
                  <a:latin typeface="Arial"/>
                </a:rPr>
                <a:t>row-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67280" y="5241600"/>
              <a:ext cx="0" cy="11160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813080" y="55306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813080" y="5783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813080" y="52066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00720" y="55180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00720" y="580536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00280" y="55306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100280" y="5783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912360" y="519408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t-obj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74920" y="490500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Arial"/>
                </a:rPr>
                <a:t>Indizierte Tabell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805160" y="6045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092360" y="6045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44640" y="60228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5218200" y="1449360"/>
            <a:ext cx="3817800" cy="3238560"/>
            <a:chOff x="5218200" y="1449360"/>
            <a:chExt cx="3817800" cy="3238560"/>
          </a:xfrm>
        </p:grpSpPr>
        <p:sp>
          <p:nvSpPr>
            <p:cNvPr id="1370" name=""/>
            <p:cNvSpPr/>
            <p:nvPr/>
          </p:nvSpPr>
          <p:spPr>
            <a:xfrm>
              <a:off x="5219640" y="1484280"/>
              <a:ext cx="3816360" cy="320364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291280" y="2109960"/>
              <a:ext cx="36018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227640" y="1820880"/>
              <a:ext cx="0" cy="2687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020000" y="1820880"/>
              <a:ext cx="0" cy="2687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920000" y="1820880"/>
              <a:ext cx="0" cy="2687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06120" y="17859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ar-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29080" y="17859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on-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076160" y="17733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t-obj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09800" y="20606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o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22840" y="2565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22840" y="281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622840" y="3070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622840" y="335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85040" y="2565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485040" y="281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80000" y="3083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85040" y="335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99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2000" y="2073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72000" y="2565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72000" y="2817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72000" y="30700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272000" y="3333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9800" y="23130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o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72000" y="2325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485040" y="2073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85040" y="23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648280" y="2073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48280" y="2565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648280" y="2817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648280" y="30700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648280" y="3333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648280" y="2325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648280" y="1749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624640" y="3645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24640" y="3921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486480" y="3645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80000" y="3921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73440" y="36082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73440" y="3897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49720" y="35845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49720" y="38480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25720" y="414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81360" y="414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641800" y="4137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487560" y="4137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40720" y="1820880"/>
              <a:ext cx="0" cy="2687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26840" y="176040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99"/>
                  </a:solidFill>
                  <a:latin typeface="Arial"/>
                </a:rPr>
                <a:t>row-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056440" y="36320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056440" y="392112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218200" y="1449360"/>
              <a:ext cx="35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Arial"/>
                </a:rPr>
                <a:t>Relationale Abbildung des M-Baum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Filtering M-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"/>
          <p:cNvSpPr/>
          <p:nvPr/>
        </p:nvSpPr>
        <p:spPr>
          <a:xfrm>
            <a:off x="-158040" y="1533600"/>
            <a:ext cx="83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weitere Reduktion der Distanzberechn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1880" y="216864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l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12160" y="2168640"/>
            <a:ext cx="56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terdistanz ≤ exakte Distan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terdistanz effizienter zu berech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07520" y="351324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Beispiel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: range-qu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016000" y="4365720"/>
            <a:ext cx="1332000" cy="1331640"/>
          </a:xfrm>
          <a:prstGeom prst="ellipse">
            <a:avLst/>
          </a:prstGeom>
          <a:solidFill>
            <a:srgbClr val="ff0000">
              <a:alpha val="30000"/>
            </a:srgbClr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700360" y="497844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2052720" y="4797000"/>
            <a:ext cx="611280" cy="252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629080" y="501336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51228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332000" y="51228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330800" y="42577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ilter(A,Q)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range(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339440" y="51544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xakt(A,Q)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range(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670720" y="47116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otivation (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bjekte werden durch mehrdimensionale Feature dargestell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ehrdimensionale Distanzfunktio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1904760"/>
            <a:ext cx="129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9966"/>
                </a:solidFill>
                <a:uFillTx/>
                <a:latin typeface="Tahoma"/>
              </a:rPr>
              <a:t>A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49400" y="3781440"/>
            <a:ext cx="512640" cy="1021320"/>
            <a:chOff x="1949400" y="3781440"/>
            <a:chExt cx="512640" cy="1021320"/>
          </a:xfrm>
        </p:grpSpPr>
        <p:sp>
          <p:nvSpPr>
            <p:cNvPr id="125" name=""/>
            <p:cNvSpPr/>
            <p:nvPr/>
          </p:nvSpPr>
          <p:spPr>
            <a:xfrm>
              <a:off x="1949400" y="3781440"/>
              <a:ext cx="5126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dddddd"/>
                  </a:solidFill>
                  <a:latin typeface="Symbol"/>
                  <a:ea typeface="Symbol"/>
                </a:rPr>
                <a:t></a:t>
              </a:r>
              <a:endParaRPr b="0" lang="en-US" sz="6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00000" y="4797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äumliche Indexstruktur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522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.B. 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R-Ba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2565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raussetzung für solche Struktur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05120" y="28684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1800" spc="-1" strike="noStrike">
                <a:solidFill>
                  <a:srgbClr val="ffcc99"/>
                </a:solidFill>
                <a:latin typeface="Tahoma"/>
              </a:rPr>
              <a:t>Vektorra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321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cht alle Daten „passen“ in Vektorräume, z.B. Punktmengen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87480" y="3933720"/>
            <a:ext cx="366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de-DE" sz="1800" spc="-1" strike="noStrike">
                <a:solidFill>
                  <a:srgbClr val="ffcc99"/>
                </a:solidFill>
                <a:latin typeface="Tahoma"/>
              </a:rPr>
              <a:t>L</a:t>
            </a:r>
            <a:r>
              <a:rPr b="0" lang="de-DE" sz="1800" spc="-1" strike="noStrike" baseline="-25000">
                <a:solidFill>
                  <a:srgbClr val="ffcc99"/>
                </a:solidFill>
                <a:latin typeface="Tahoma"/>
              </a:rPr>
              <a:t>p</a:t>
            </a:r>
            <a:r>
              <a:rPr b="0" lang="de-DE" sz="1800" spc="-1" strike="noStrike">
                <a:solidFill>
                  <a:srgbClr val="ffcc99"/>
                </a:solidFill>
                <a:latin typeface="Tahoma"/>
              </a:rPr>
              <a:t>-Metrik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(z.B. Euklidsche Metri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643280" y="48625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anzberechnung ≡ trivialer 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323000">
            <a:off x="4857480" y="5446800"/>
            <a:ext cx="377640" cy="5047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5445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i MM-Anwendungen häufig komplexe Distanzfunktionen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450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ahoma"/>
              </a:rPr>
              <a:t>Annah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otivation (i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06064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che nach allgemeineren Ansätz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2852640"/>
            <a:ext cx="3743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diglich durch Metrik beschränk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6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timierung auf Anzahl der Distanzberechnu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2060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Metrischer 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8160" y="2852640"/>
            <a:ext cx="374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isherige Implementierungen nicht für dynamische DB-Anwendungen geeig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keine Optimierung auf I/O-Kosten wie bei SAM‘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6920" y="515772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he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dynamisch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balancierten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uf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I/O-Kos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ptimierenden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metrisch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5310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Ziel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Übersi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hnlichkeitssuche im M-B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llung eines M-Ba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istungs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rundla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62200" y="206064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Tahoma"/>
              </a:rPr>
              <a:t>Metrischer Ra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781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Metrischer Raum ist ein Paar M = (D,d), wobei D der Wertebereich der Featurewerte ist und d eine totale Distanzfunktion (Metrik) mit folgenden Eigenschaften i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15480" y="4149720"/>
            <a:ext cx="3044520" cy="499320"/>
            <a:chOff x="1815480" y="4149720"/>
            <a:chExt cx="3044520" cy="499320"/>
          </a:xfrm>
        </p:grpSpPr>
        <p:sp>
          <p:nvSpPr>
            <p:cNvPr id="156" name=""/>
            <p:cNvSpPr/>
            <p:nvPr/>
          </p:nvSpPr>
          <p:spPr>
            <a:xfrm>
              <a:off x="4744800" y="4189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48000" y="41896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2920" y="4189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7120" y="4189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48080" y="41896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31480" y="4189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4840" y="44053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9480" y="44053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22480" y="44053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28920" y="44053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63920" y="41896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9200" y="41896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8360" y="41896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2200" y="41896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6320" y="41896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5480" y="41896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2280" y="41497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16920" y="4724280"/>
            <a:ext cx="3911400" cy="499320"/>
            <a:chOff x="1816920" y="4724280"/>
            <a:chExt cx="3911400" cy="499320"/>
          </a:xfrm>
        </p:grpSpPr>
        <p:sp>
          <p:nvSpPr>
            <p:cNvPr id="174" name=""/>
            <p:cNvSpPr/>
            <p:nvPr/>
          </p:nvSpPr>
          <p:spPr>
            <a:xfrm>
              <a:off x="5613120" y="4763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73280" y="4763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3160" y="4763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0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800" y="4763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23960" y="47638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31480" y="4763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8480" y="4979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0120" y="4979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00520" y="4979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98680" y="4979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18200" y="4763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89560" y="4763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3840" y="4763880"/>
              <a:ext cx="403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für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9880" y="4763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7760" y="4763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16920" y="4763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06080" y="472428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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28120" y="472428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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815840" y="5165640"/>
            <a:ext cx="1842480" cy="502560"/>
            <a:chOff x="1815840" y="5165640"/>
            <a:chExt cx="1842480" cy="502560"/>
          </a:xfrm>
        </p:grpSpPr>
        <p:sp>
          <p:nvSpPr>
            <p:cNvPr id="193" name=""/>
            <p:cNvSpPr/>
            <p:nvPr/>
          </p:nvSpPr>
          <p:spPr>
            <a:xfrm>
              <a:off x="3479400" y="5205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14640" y="5205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9280" y="5205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0400" y="5205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68000" y="51656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4320" y="54244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95440" y="54244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5560" y="52052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44880" y="52052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5840" y="5205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815480" y="5827680"/>
            <a:ext cx="4639680" cy="499320"/>
            <a:chOff x="1815480" y="5827680"/>
            <a:chExt cx="4639680" cy="499320"/>
          </a:xfrm>
        </p:grpSpPr>
        <p:sp>
          <p:nvSpPr>
            <p:cNvPr id="204" name=""/>
            <p:cNvSpPr/>
            <p:nvPr/>
          </p:nvSpPr>
          <p:spPr>
            <a:xfrm>
              <a:off x="633996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30920" y="58672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4492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9692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6960" y="58672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448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192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22520" y="58672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,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1480" y="58672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7120" y="6083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1760" y="60832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3440" y="60832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81320" y="6083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8720" y="6083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98680" y="6083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cc99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684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6084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000" y="5867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108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076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99920" y="5867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844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46320" y="58672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5480" y="5867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ffcc99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6120" y="582768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3480" y="582768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cc99"/>
                  </a:solidFill>
                  <a:latin typeface="Symbol"/>
                  <a:ea typeface="Symbol"/>
                </a:rPr>
                <a:t>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58920" y="4197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4772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5875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419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metr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477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t negat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58752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reiecksung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rundlagen (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574000" y="1773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Ähnlichkeitsanfrag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00" y="2708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eque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426360" y="2492280"/>
            <a:ext cx="1944360" cy="1800360"/>
            <a:chOff x="6426360" y="2492280"/>
            <a:chExt cx="1944360" cy="1800360"/>
          </a:xfrm>
        </p:grpSpPr>
        <p:sp>
          <p:nvSpPr>
            <p:cNvPr id="240" name=""/>
            <p:cNvSpPr/>
            <p:nvPr/>
          </p:nvSpPr>
          <p:spPr>
            <a:xfrm>
              <a:off x="6426360" y="2492280"/>
              <a:ext cx="1944360" cy="1800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0" y="2889360"/>
              <a:ext cx="936720" cy="1008000"/>
            </a:xfrm>
            <a:prstGeom prst="ellips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74000" y="324972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7440" y="3068640"/>
              <a:ext cx="10944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78720" y="3645000"/>
              <a:ext cx="10944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18360" y="3068640"/>
              <a:ext cx="10944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47080" y="3284640"/>
              <a:ext cx="10944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50000" y="4005360"/>
              <a:ext cx="10980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6720" y="3500280"/>
              <a:ext cx="10944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78720" y="375444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6720" y="3105000"/>
              <a:ext cx="10944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74000" y="389736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47080" y="2744640"/>
              <a:ext cx="10944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86720" y="2744640"/>
              <a:ext cx="10944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34360" y="260028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18360" y="3573360"/>
              <a:ext cx="10944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434360" y="32493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8560" y="3338640"/>
              <a:ext cx="109800" cy="109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4600" y="326556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r(Q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50040" y="3392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426360" y="4400640"/>
            <a:ext cx="1944360" cy="1800000"/>
            <a:chOff x="6426360" y="4400640"/>
            <a:chExt cx="1944360" cy="1800000"/>
          </a:xfrm>
        </p:grpSpPr>
        <p:sp>
          <p:nvSpPr>
            <p:cNvPr id="261" name=""/>
            <p:cNvSpPr/>
            <p:nvPr/>
          </p:nvSpPr>
          <p:spPr>
            <a:xfrm>
              <a:off x="6426360" y="4400640"/>
              <a:ext cx="1944360" cy="1800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2600" y="4905360"/>
              <a:ext cx="769320" cy="828720"/>
            </a:xfrm>
            <a:prstGeom prst="ellips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74000" y="5157720"/>
              <a:ext cx="10908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7080" y="4976640"/>
              <a:ext cx="10908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78720" y="5553000"/>
              <a:ext cx="10908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8360" y="4976640"/>
              <a:ext cx="10908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6720" y="5192640"/>
              <a:ext cx="10908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50000" y="5913360"/>
              <a:ext cx="10908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6360" y="5408640"/>
              <a:ext cx="10908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78360" y="5662440"/>
              <a:ext cx="10908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6360" y="5013360"/>
              <a:ext cx="10908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3640" y="5805360"/>
              <a:ext cx="109440" cy="109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46720" y="4653000"/>
              <a:ext cx="10908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86360" y="465300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34000" y="4508640"/>
              <a:ext cx="109440" cy="1094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18360" y="5481720"/>
              <a:ext cx="10908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78560" y="5246640"/>
              <a:ext cx="109080" cy="109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9680" y="5300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31080" y="58053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=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92000" y="4473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-NN-Que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27920" y="3824280"/>
            <a:ext cx="4644720" cy="432720"/>
            <a:chOff x="1627920" y="3824280"/>
            <a:chExt cx="4644720" cy="432720"/>
          </a:xfrm>
        </p:grpSpPr>
        <p:sp>
          <p:nvSpPr>
            <p:cNvPr id="282" name=""/>
            <p:cNvSpPr/>
            <p:nvPr/>
          </p:nvSpPr>
          <p:spPr>
            <a:xfrm>
              <a:off x="6034320" y="385776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)}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720" y="3857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6880" y="3857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68280" y="3857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53560" y="3857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9080" y="3857760"/>
              <a:ext cx="58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|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64800" y="3857760"/>
              <a:ext cx="140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97520" y="385776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)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920" y="3857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37720" y="3857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23080" y="3857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256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81080" y="3857760"/>
              <a:ext cx="115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6476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5220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74640" y="3857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9008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7576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3920" y="3857760"/>
              <a:ext cx="115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19920" y="38577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27920" y="3857760"/>
              <a:ext cx="68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300" spc="-1" strike="noStrike">
                  <a:solidFill>
                    <a:srgbClr val="ffffff"/>
                  </a:solidFill>
                  <a:latin typeface="Times New Roman"/>
                </a:rPr>
                <a:t>rang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86560" y="404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24440" y="404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12880" y="38242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25040" y="38242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85320" y="501336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e die k nächsten Nachbarn von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000" y="317664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finde alle Objekte, die von Q max. r(Q) entfernt s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8:41:21Z</dcterms:created>
  <dc:creator>Olaf Schmitt</dc:creator>
  <dc:description/>
  <dc:language>en-US</dc:language>
  <cp:lastModifiedBy>DBS</cp:lastModifiedBy>
  <dcterms:modified xsi:type="dcterms:W3CDTF">2004-07-07T06:41:27Z</dcterms:modified>
  <cp:revision>204</cp:revision>
  <dc:subject/>
  <dc:title>„M-Baum: Eine effiziente Indexstruktur für Ähnlichkeitsanfragen in metrischen Räumen“</dc:title>
</cp:coreProperties>
</file>